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535D9-F6DF-4E1C-825C-81C30C001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9BE7A-A839-47E9-96DA-AEC350482241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0A99D-CAD6-4EA3-824B-1F9DEF760FBA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AC832-31FC-4809-967D-601FD1580784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25DF5-862D-4710-ACBE-5281D771A2FA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FDCCC-4C23-419B-BBAD-7E49C5A047AE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1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 of Halley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voids October-70, 71,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is naturally low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4 years shows the extremely low values over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4440" indent="-244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latitudes (high collar) has also de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A4399-CE9C-4C50-BAED-D34092966170}" type="slidenum">
              <a:rPr b="0" lang="en-US" sz="13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146-7878-426B-958C-EC365041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9D0-49C2-485E-9C3C-8D44DC2B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D21-BEC1-4D35-97AD-178DD9BE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523-065C-4F8E-B67F-5AFBEFE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F69C-031A-4020-B843-5E2F8AE0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20A0-533A-4D9D-A3C4-22B24FDE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580-6EF6-4E6C-B575-57A237C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F78-4BD0-4C2A-8C21-8D82904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AFC9-2B0C-449C-86D5-F9460A36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F5FE-0134-46EF-BB10-A81B2D2A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9116-7631-498F-9366-5008FC4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7CB-C6F9-4518-B145-61019EE3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B885-55F6-4EF6-8B3A-E54295A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522-D364-445F-97A2-2A7EF85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C6C2-84BE-4B4E-95C3-3BB3C588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8DE-4E7E-4FE6-B01D-2413B615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DB7E-CD0A-4DF3-9C60-ED8DDFD1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0D9-23C8-47C2-836D-C98FABBE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718-E655-4BF2-91FE-50F1DD7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8F0-E001-47F8-A285-5DDD821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CED-4087-4C52-BD3F-8323774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913-DCC7-4E6D-B994-AEB17D46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E8A-E7A0-46D9-A934-EC3D61E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265-F157-4641-B239-BC4D355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107-6273-478C-A707-A12B7DE5C03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BD97-C4D9-4CD5-B652-2F54DD1FBA55}" type="slidenum"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conbazaar.com/bars/contributed/pg04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02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8139-C52F-40EB-88D2-EB269426EC7B}" type="slidenum"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Times New Roman"/>
              </a:rPr>
              <a:t>Ozone</a:t>
            </a:r>
            <a:br>
              <a:rPr sz="48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good &amp; ba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EC2-5184-4AA9-93CC-FB0DCA0F89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Line 2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03" name="Line 24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Line 27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Line 30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34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27885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9687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8341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8341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8341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8341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6994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52"/>
          <p:cNvSpPr/>
          <p:nvPr/>
        </p:nvSpPr>
        <p:spPr>
          <a:xfrm rot="16200000">
            <a:off x="-315360" y="335124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53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6119640" y="26780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7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Ozone In the Atmospher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Line 59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 flipH="1" rot="5400000">
            <a:off x="7227000" y="3294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761580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761868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761580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761580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76158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76255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8"/>
          <p:cNvSpPr/>
          <p:nvPr/>
        </p:nvSpPr>
        <p:spPr>
          <a:xfrm>
            <a:off x="761580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69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8"/>
          <p:cNvSpPr/>
          <p:nvPr/>
        </p:nvSpPr>
        <p:spPr>
          <a:xfrm>
            <a:off x="1523880" y="3917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90% of ozone is in the strat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Freeform 90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93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95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101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102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Line 103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105"/>
          <p:cNvSpPr/>
          <p:nvPr/>
        </p:nvSpPr>
        <p:spPr>
          <a:xfrm>
            <a:off x="182880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10% of ozone is in the troposp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088-D5DF-4058-9E05-0155789EDD3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 rot="20042400">
            <a:off x="3209400" y="383760"/>
            <a:ext cx="155880" cy="5672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 rot="20042400">
            <a:off x="3059280" y="479160"/>
            <a:ext cx="152280" cy="5562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6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Rectangle 61"/>
          <p:cNvSpPr/>
          <p:nvPr/>
        </p:nvSpPr>
        <p:spPr>
          <a:xfrm rot="20042400">
            <a:off x="2883960" y="456840"/>
            <a:ext cx="152640" cy="5562720"/>
          </a:xfrm>
          <a:prstGeom prst="rect">
            <a:avLst/>
          </a:prstGeom>
          <a:gradFill rotWithShape="0">
            <a:gsLst>
              <a:gs pos="0">
                <a:srgbClr val="ff0086"/>
              </a:gs>
              <a:gs pos="100000">
                <a:srgbClr val="76003e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60"/>
          <p:cNvSpPr/>
          <p:nvPr/>
        </p:nvSpPr>
        <p:spPr>
          <a:xfrm rot="20042400">
            <a:off x="2347920" y="568080"/>
            <a:ext cx="147600" cy="3787560"/>
          </a:xfrm>
          <a:prstGeom prst="rect">
            <a:avLst/>
          </a:prstGeom>
          <a:gradFill rotWithShape="0">
            <a:gsLst>
              <a:gs pos="0">
                <a:srgbClr val="e300ff"/>
              </a:gs>
              <a:gs pos="100000">
                <a:srgbClr val="6900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Freeform 49"/>
          <p:cNvSpPr/>
          <p:nvPr/>
        </p:nvSpPr>
        <p:spPr>
          <a:xfrm>
            <a:off x="1295280" y="1371600"/>
            <a:ext cx="5386680" cy="4419720"/>
          </a:xfrm>
          <a:prstGeom prst="pie">
            <a:avLst/>
          </a:prstGeom>
          <a:noFill/>
          <a:ln w="57240">
            <a:solidFill>
              <a:srgbClr val="fff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59" descr="latest_solisHe"/>
          <p:cNvPicPr/>
          <p:nvPr/>
        </p:nvPicPr>
        <p:blipFill>
          <a:blip r:embed="rId1"/>
          <a:srcRect l="0" t="31092" r="0" b="0"/>
          <a:stretch/>
        </p:blipFill>
        <p:spPr>
          <a:xfrm>
            <a:off x="914400" y="0"/>
            <a:ext cx="1447920" cy="996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4"/>
          <p:cNvSpPr/>
          <p:nvPr/>
        </p:nvSpPr>
        <p:spPr>
          <a:xfrm>
            <a:off x="3033720" y="21337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00ff"/>
                </a:solidFill>
                <a:latin typeface="Times New Roman"/>
              </a:rPr>
              <a:t>UVc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10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3173760" y="24163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86"/>
                </a:solidFill>
                <a:latin typeface="Times New Roman"/>
              </a:rPr>
              <a:t>UVb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90% Absorp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>
            <a:off x="3375360" y="26989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V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- 50% Absorption &amp; Scatt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69"/>
          <p:cNvSpPr/>
          <p:nvPr/>
        </p:nvSpPr>
        <p:spPr>
          <a:xfrm>
            <a:off x="3111480" y="76212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700"/>
                </a:solidFill>
                <a:latin typeface="Times New Roman"/>
              </a:rPr>
              <a:t>Ozone is the Earth’s natural sunscre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295280" y="526572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1"/>
          <p:cNvSpPr/>
          <p:nvPr/>
        </p:nvSpPr>
        <p:spPr>
          <a:xfrm>
            <a:off x="1303200" y="206064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1300320" y="1359000"/>
            <a:ext cx="6232320" cy="4419360"/>
          </a:xfrm>
          <a:prstGeom prst="rect">
            <a:avLst/>
          </a:prstGeom>
          <a:noFill/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73"/>
          <p:cNvSpPr/>
          <p:nvPr/>
        </p:nvSpPr>
        <p:spPr>
          <a:xfrm>
            <a:off x="13003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74"/>
          <p:cNvSpPr/>
          <p:nvPr/>
        </p:nvSpPr>
        <p:spPr>
          <a:xfrm>
            <a:off x="19922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75"/>
          <p:cNvSpPr/>
          <p:nvPr/>
        </p:nvSpPr>
        <p:spPr>
          <a:xfrm>
            <a:off x="26845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76"/>
          <p:cNvSpPr/>
          <p:nvPr/>
        </p:nvSpPr>
        <p:spPr>
          <a:xfrm>
            <a:off x="3376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77"/>
          <p:cNvSpPr/>
          <p:nvPr/>
        </p:nvSpPr>
        <p:spPr>
          <a:xfrm>
            <a:off x="4068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78"/>
          <p:cNvSpPr/>
          <p:nvPr/>
        </p:nvSpPr>
        <p:spPr>
          <a:xfrm>
            <a:off x="47624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79"/>
          <p:cNvSpPr/>
          <p:nvPr/>
        </p:nvSpPr>
        <p:spPr>
          <a:xfrm>
            <a:off x="7532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Group 80"/>
          <p:cNvGrpSpPr/>
          <p:nvPr/>
        </p:nvGrpSpPr>
        <p:grpSpPr>
          <a:xfrm>
            <a:off x="1295280" y="1359000"/>
            <a:ext cx="106200" cy="4419000"/>
            <a:chOff x="1295280" y="1359000"/>
            <a:chExt cx="106200" cy="4419000"/>
          </a:xfrm>
        </p:grpSpPr>
        <p:sp>
          <p:nvSpPr>
            <p:cNvPr id="171" name="Line 81"/>
            <p:cNvSpPr/>
            <p:nvPr/>
          </p:nvSpPr>
          <p:spPr>
            <a:xfrm>
              <a:off x="1295280" y="1359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1295280" y="224208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>
              <a:off x="1295280" y="312516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1295280" y="401004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>
              <a:off x="1295280" y="489312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1295280" y="5778000"/>
              <a:ext cx="106200" cy="0"/>
            </a:xfrm>
            <a:prstGeom prst="line">
              <a:avLst/>
            </a:prstGeom>
            <a:ln w="38160">
              <a:solidFill>
                <a:srgbClr val="bdb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Line 87"/>
          <p:cNvSpPr/>
          <p:nvPr/>
        </p:nvSpPr>
        <p:spPr>
          <a:xfrm>
            <a:off x="7423200" y="13590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Line 88"/>
          <p:cNvSpPr/>
          <p:nvPr/>
        </p:nvSpPr>
        <p:spPr>
          <a:xfrm>
            <a:off x="7423200" y="22096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89"/>
          <p:cNvSpPr/>
          <p:nvPr/>
        </p:nvSpPr>
        <p:spPr>
          <a:xfrm>
            <a:off x="7423200" y="28954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90"/>
          <p:cNvSpPr/>
          <p:nvPr/>
        </p:nvSpPr>
        <p:spPr>
          <a:xfrm>
            <a:off x="7423200" y="358128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Line 91"/>
          <p:cNvSpPr/>
          <p:nvPr/>
        </p:nvSpPr>
        <p:spPr>
          <a:xfrm>
            <a:off x="7423200" y="434340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2"/>
          <p:cNvSpPr/>
          <p:nvPr/>
        </p:nvSpPr>
        <p:spPr>
          <a:xfrm>
            <a:off x="3341160" y="609588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Ozone (parts per mill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3"/>
          <p:cNvSpPr/>
          <p:nvPr/>
        </p:nvSpPr>
        <p:spPr>
          <a:xfrm>
            <a:off x="966960" y="5578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4"/>
          <p:cNvSpPr/>
          <p:nvPr/>
        </p:nvSpPr>
        <p:spPr>
          <a:xfrm>
            <a:off x="832320" y="4694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95"/>
          <p:cNvSpPr/>
          <p:nvPr/>
        </p:nvSpPr>
        <p:spPr>
          <a:xfrm>
            <a:off x="832320" y="3809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96"/>
          <p:cNvSpPr/>
          <p:nvPr/>
        </p:nvSpPr>
        <p:spPr>
          <a:xfrm>
            <a:off x="832320" y="292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97"/>
          <p:cNvSpPr/>
          <p:nvPr/>
        </p:nvSpPr>
        <p:spPr>
          <a:xfrm>
            <a:off x="8323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8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98"/>
          <p:cNvSpPr/>
          <p:nvPr/>
        </p:nvSpPr>
        <p:spPr>
          <a:xfrm>
            <a:off x="697680" y="1158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99"/>
          <p:cNvSpPr/>
          <p:nvPr/>
        </p:nvSpPr>
        <p:spPr>
          <a:xfrm rot="16200000">
            <a:off x="-315360" y="3352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k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00"/>
          <p:cNvSpPr/>
          <p:nvPr/>
        </p:nvSpPr>
        <p:spPr>
          <a:xfrm>
            <a:off x="1295280" y="3581280"/>
            <a:ext cx="6248520" cy="0"/>
          </a:xfrm>
          <a:prstGeom prst="line">
            <a:avLst/>
          </a:prstGeom>
          <a:ln w="93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101"/>
          <p:cNvSpPr/>
          <p:nvPr/>
        </p:nvSpPr>
        <p:spPr>
          <a:xfrm>
            <a:off x="6075000" y="52815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rop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02"/>
          <p:cNvSpPr/>
          <p:nvPr/>
        </p:nvSpPr>
        <p:spPr>
          <a:xfrm>
            <a:off x="6021360" y="2209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Mes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103"/>
          <p:cNvSpPr/>
          <p:nvPr/>
        </p:nvSpPr>
        <p:spPr>
          <a:xfrm>
            <a:off x="5896440" y="1584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Thermosphe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4"/>
          <p:cNvSpPr/>
          <p:nvPr/>
        </p:nvSpPr>
        <p:spPr>
          <a:xfrm>
            <a:off x="7439040" y="51055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105"/>
          <p:cNvSpPr/>
          <p:nvPr/>
        </p:nvSpPr>
        <p:spPr>
          <a:xfrm flipH="1" rot="5400000">
            <a:off x="7228440" y="32958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Altitude (mi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106"/>
          <p:cNvSpPr/>
          <p:nvPr/>
        </p:nvSpPr>
        <p:spPr>
          <a:xfrm>
            <a:off x="7614360" y="4937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107"/>
          <p:cNvSpPr/>
          <p:nvPr/>
        </p:nvSpPr>
        <p:spPr>
          <a:xfrm>
            <a:off x="7617240" y="5562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108"/>
          <p:cNvSpPr/>
          <p:nvPr/>
        </p:nvSpPr>
        <p:spPr>
          <a:xfrm>
            <a:off x="7614360" y="4175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2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109"/>
          <p:cNvSpPr/>
          <p:nvPr/>
        </p:nvSpPr>
        <p:spPr>
          <a:xfrm>
            <a:off x="7614360" y="3352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3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110"/>
          <p:cNvSpPr/>
          <p:nvPr/>
        </p:nvSpPr>
        <p:spPr>
          <a:xfrm>
            <a:off x="761436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4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11"/>
          <p:cNvSpPr/>
          <p:nvPr/>
        </p:nvSpPr>
        <p:spPr>
          <a:xfrm>
            <a:off x="7623720" y="20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112"/>
          <p:cNvSpPr/>
          <p:nvPr/>
        </p:nvSpPr>
        <p:spPr>
          <a:xfrm>
            <a:off x="7614360" y="1219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  <a:ea typeface="ＭＳ Ｐゴシック"/>
              </a:rPr>
              <a:t>6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13"/>
          <p:cNvSpPr/>
          <p:nvPr/>
        </p:nvSpPr>
        <p:spPr>
          <a:xfrm>
            <a:off x="7439040" y="1447920"/>
            <a:ext cx="104760" cy="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114"/>
          <p:cNvSpPr/>
          <p:nvPr/>
        </p:nvSpPr>
        <p:spPr>
          <a:xfrm>
            <a:off x="11401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15"/>
          <p:cNvSpPr/>
          <p:nvPr/>
        </p:nvSpPr>
        <p:spPr>
          <a:xfrm>
            <a:off x="252432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16"/>
          <p:cNvSpPr/>
          <p:nvPr/>
        </p:nvSpPr>
        <p:spPr>
          <a:xfrm>
            <a:off x="39088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17"/>
          <p:cNvSpPr/>
          <p:nvPr/>
        </p:nvSpPr>
        <p:spPr>
          <a:xfrm>
            <a:off x="52930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18"/>
          <p:cNvSpPr/>
          <p:nvPr/>
        </p:nvSpPr>
        <p:spPr>
          <a:xfrm>
            <a:off x="6677280" y="579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bf01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119"/>
          <p:cNvSpPr/>
          <p:nvPr/>
        </p:nvSpPr>
        <p:spPr>
          <a:xfrm>
            <a:off x="54547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Line 120"/>
          <p:cNvSpPr/>
          <p:nvPr/>
        </p:nvSpPr>
        <p:spPr>
          <a:xfrm>
            <a:off x="614664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Line 121"/>
          <p:cNvSpPr/>
          <p:nvPr/>
        </p:nvSpPr>
        <p:spPr>
          <a:xfrm>
            <a:off x="6838920" y="5668920"/>
            <a:ext cx="0" cy="100080"/>
          </a:xfrm>
          <a:prstGeom prst="line">
            <a:avLst/>
          </a:prstGeom>
          <a:ln w="38160">
            <a:solidFill>
              <a:srgbClr val="bdb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EBF-A8B6-4D42-B03E-36FABE6BE4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65240" y="1555920"/>
            <a:ext cx="8813520" cy="381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s that Destroy Stratospheric Ozon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229040" y="5502240"/>
            <a:ext cx="6842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 is much more abundant than B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r is about 50 times more effective at 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estr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1462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656360" y="6491160"/>
            <a:ext cx="58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rom Ozone FAQ - see http://www.unep.org/ozone/faq.s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8613-FCA8-40E3-BC21-AD97295F0E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6440" y="122040"/>
            <a:ext cx="7772400" cy="6858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ctober Average Ozone Ho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20" name="Picture 7" descr="aa 2"/>
          <p:cNvPicPr/>
          <p:nvPr/>
        </p:nvPicPr>
        <p:blipFill>
          <a:blip r:embed="rId1"/>
          <a:srcRect l="7578" t="16667" r="6819" b="9802"/>
          <a:stretch/>
        </p:blipFill>
        <p:spPr>
          <a:xfrm>
            <a:off x="270000" y="99072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619000" y="635328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687640" y="6354720"/>
            <a:ext cx="80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1523880"/>
            <a:ext cx="9220320" cy="487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3048120" y="6400800"/>
            <a:ext cx="2514600" cy="457200"/>
          </a:xfrm>
          <a:prstGeom prst="pie">
            <a:avLst/>
          </a:pr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5" name="Picture 4" descr="forest">
            <a:hlinkClick r:id="rId1"/>
          </p:cNvPr>
          <p:cNvPicPr/>
          <p:nvPr/>
        </p:nvPicPr>
        <p:blipFill>
          <a:blip r:embed="rId2"/>
          <a:srcRect l="0" t="0" r="72424" b="0"/>
          <a:stretch/>
        </p:blipFill>
        <p:spPr>
          <a:xfrm>
            <a:off x="160020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5"/>
          <p:cNvSpPr/>
          <p:nvPr/>
        </p:nvSpPr>
        <p:spPr>
          <a:xfrm>
            <a:off x="-76320" y="6400800"/>
            <a:ext cx="342900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6" descr="forest"/>
          <p:cNvPicPr/>
          <p:nvPr/>
        </p:nvPicPr>
        <p:blipFill>
          <a:blip r:embed="rId3"/>
          <a:srcRect l="0" t="0" r="72424" b="0"/>
          <a:stretch/>
        </p:blipFill>
        <p:spPr>
          <a:xfrm>
            <a:off x="7010280" y="6151680"/>
            <a:ext cx="1289160" cy="249120"/>
          </a:xfrm>
          <a:prstGeom prst="rect">
            <a:avLst/>
          </a:prstGeom>
          <a:ln w="0">
            <a:noFill/>
          </a:ln>
        </p:spPr>
      </p:pic>
      <p:sp>
        <p:nvSpPr>
          <p:cNvPr id="228" name="Freeform 7"/>
          <p:cNvSpPr/>
          <p:nvPr/>
        </p:nvSpPr>
        <p:spPr>
          <a:xfrm flipH="1">
            <a:off x="5257080" y="6400800"/>
            <a:ext cx="3352680" cy="457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251760" y="541008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7467480" y="548640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2209680" y="3809880"/>
            <a:ext cx="5105520" cy="2057400"/>
          </a:xfrm>
          <a:prstGeom prst="pie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93960" y="5335560"/>
            <a:ext cx="831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O</a:t>
            </a:r>
            <a:r>
              <a:rPr b="1" lang="en-US" sz="1200" spc="-1" strike="noStrike" baseline="-25000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NMVO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209680" y="5334120"/>
            <a:ext cx="609840" cy="609480"/>
          </a:xfrm>
          <a:prstGeom prst="rightArrowCallout">
            <a:avLst>
              <a:gd name="adj1" fmla="val 16150"/>
              <a:gd name="adj2" fmla="val 23176"/>
              <a:gd name="adj3" fmla="val 41228"/>
              <a:gd name="adj4" fmla="val 45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1794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2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815280" y="640080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OCE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8159760" y="556272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395840" y="4189320"/>
            <a:ext cx="137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Boundary lay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(0-2.5 k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6934680" y="199548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ree Tropospher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826200" y="641520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NTINENT 1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ospheric ozone links air pollution &amp; climate chan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) primary constituent of smog in surface air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R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991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st important greenhouse gas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P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1]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457200" y="5562720"/>
          <a:ext cx="4572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3"/>
          <p:cNvGraphicFramePr/>
          <p:nvPr/>
        </p:nvGraphicFramePr>
        <p:xfrm>
          <a:off x="5791320" y="5562720"/>
          <a:ext cx="45720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5562720"/>
                    <a:ext cx="4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6324480" y="6068880"/>
          <a:ext cx="68580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990720" y="6068880"/>
          <a:ext cx="68580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6068880"/>
                    <a:ext cx="685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5"/>
          <p:cNvSpPr/>
          <p:nvPr/>
        </p:nvSpPr>
        <p:spPr>
          <a:xfrm>
            <a:off x="244440" y="391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385640" y="3990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HO</a:t>
            </a:r>
            <a:r>
              <a:rPr b="1" lang="en-US" sz="1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27"/>
          <p:cNvSpPr/>
          <p:nvPr/>
        </p:nvSpPr>
        <p:spPr>
          <a:xfrm>
            <a:off x="392040" y="255600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AutoShape 28"/>
          <p:cNvSpPr/>
          <p:nvPr/>
        </p:nvSpPr>
        <p:spPr>
          <a:xfrm rot="10674000">
            <a:off x="228240" y="3187440"/>
            <a:ext cx="1554120" cy="315720"/>
          </a:xfrm>
          <a:custGeom>
            <a:avLst/>
            <a:gdLst>
              <a:gd name="textAreaLeft" fmla="*/ 276480 w 1554120"/>
              <a:gd name="textAreaRight" fmla="*/ 1066320 w 155412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90" hR="21600" stAng="10800000" swAng="5400000"/>
                <a:lnTo>
                  <a:pt x="10972" y="0"/>
                </a:lnTo>
                <a:arcTo wR="7690" hR="21600" stAng="-5400000" swAng="2608245"/>
                <a:lnTo>
                  <a:pt x="21109" y="14006"/>
                </a:lnTo>
                <a:lnTo>
                  <a:pt x="17021" y="21600"/>
                </a:lnTo>
                <a:lnTo>
                  <a:pt x="11951" y="14006"/>
                </a:lnTo>
                <a:lnTo>
                  <a:pt x="14889" y="14006"/>
                </a:lnTo>
                <a:arcTo wR="7690" hR="21600" stAng="-2791755" swAng="-2341451"/>
                <a:lnTo>
                  <a:pt x="9331" y="498"/>
                </a:lnTo>
                <a:arcTo wR="7690" hR="21600" stAng="-5666794" swAng="-5133206"/>
                <a:close/>
              </a:path>
              <a:path fill="darkenLess" w="21600" h="21600">
                <a:moveTo>
                  <a:pt x="0" y="21600"/>
                </a:moveTo>
                <a:arcTo wR="7690" hR="21600" stAng="10800000" swAng="5400000"/>
                <a:lnTo>
                  <a:pt x="7690" y="0"/>
                </a:lnTo>
                <a:arcTo wR="7690" hR="21600" stAng="-5400000" swAng="266794"/>
                <a:lnTo>
                  <a:pt x="9331" y="498"/>
                </a:lnTo>
                <a:arcTo wR="7690" hR="21600" stAng="-5666794" swAng="-5133206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307800" y="4741920"/>
            <a:ext cx="1347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OC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, C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1378080" y="2833560"/>
            <a:ext cx="60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317160" y="2847960"/>
            <a:ext cx="505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AutoShape 32"/>
          <p:cNvSpPr/>
          <p:nvPr/>
        </p:nvSpPr>
        <p:spPr>
          <a:xfrm>
            <a:off x="351000" y="4359240"/>
            <a:ext cx="1555560" cy="379440"/>
          </a:xfrm>
          <a:custGeom>
            <a:avLst/>
            <a:gdLst>
              <a:gd name="textAreaLeft" fmla="*/ 295560 w 1555560"/>
              <a:gd name="textAreaRight" fmla="*/ 1104840 w 155556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33"/>
          <p:cNvSpPr/>
          <p:nvPr/>
        </p:nvSpPr>
        <p:spPr>
          <a:xfrm rot="10650600">
            <a:off x="228240" y="3541680"/>
            <a:ext cx="1554120" cy="379440"/>
          </a:xfrm>
          <a:custGeom>
            <a:avLst/>
            <a:gdLst>
              <a:gd name="textAreaLeft" fmla="*/ 295200 w 1554120"/>
              <a:gd name="textAreaRight" fmla="*/ 1103760 w 15541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-2926766"/>
                <a:lnTo>
                  <a:pt x="21179" y="6826"/>
                </a:lnTo>
                <a:lnTo>
                  <a:pt x="17935" y="0"/>
                </a:lnTo>
                <a:lnTo>
                  <a:pt x="13849" y="6826"/>
                </a:lnTo>
                <a:lnTo>
                  <a:pt x="16004" y="6826"/>
                </a:lnTo>
                <a:arcTo wR="8213" hR="21600" stAng="2473234" swAng="2682685"/>
                <a:lnTo>
                  <a:pt x="9723" y="21232"/>
                </a:lnTo>
                <a:arcTo wR="8213" hR="21600" stAng="5644081" swAng="5155919"/>
                <a:close/>
              </a:path>
              <a:path fill="darkenLess" w="21600" h="21600">
                <a:moveTo>
                  <a:pt x="0" y="0"/>
                </a:moveTo>
                <a:arcTo wR="8213" hR="21600" stAng="10800000" swAng="-5400000"/>
                <a:lnTo>
                  <a:pt x="11233" y="21600"/>
                </a:lnTo>
                <a:arcTo wR="8213" hR="21600" stAng="5400000" swAng="244081"/>
                <a:lnTo>
                  <a:pt x="9723" y="21232"/>
                </a:lnTo>
                <a:arcTo wR="8213" hR="21600" stAng="5644081" swAng="5155919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923400" y="21337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660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AutoShape 35"/>
          <p:cNvSpPr/>
          <p:nvPr/>
        </p:nvSpPr>
        <p:spPr>
          <a:xfrm>
            <a:off x="1523880" y="2209680"/>
            <a:ext cx="2210040" cy="228600"/>
          </a:xfrm>
          <a:prstGeom prst="rightArrow">
            <a:avLst>
              <a:gd name="adj1" fmla="val 30065"/>
              <a:gd name="adj2" fmla="val 25310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AutoShape 36"/>
          <p:cNvSpPr/>
          <p:nvPr/>
        </p:nvSpPr>
        <p:spPr>
          <a:xfrm>
            <a:off x="3657600" y="1523880"/>
            <a:ext cx="1523880" cy="2210040"/>
          </a:xfrm>
          <a:prstGeom prst="irregularSeal1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826000" y="541008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5554080" y="290988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Hemispheric Pollu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896920" y="420516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Direct Intercontinental Transpor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40"/>
          <p:cNvSpPr/>
          <p:nvPr/>
        </p:nvSpPr>
        <p:spPr>
          <a:xfrm rot="2287800">
            <a:off x="4495680" y="3124080"/>
            <a:ext cx="1965600" cy="457200"/>
          </a:xfrm>
          <a:prstGeom prst="rightArrow">
            <a:avLst>
              <a:gd name="adj1" fmla="val 50000"/>
              <a:gd name="adj2" fmla="val 10748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Line 41"/>
          <p:cNvSpPr/>
          <p:nvPr/>
        </p:nvSpPr>
        <p:spPr>
          <a:xfrm>
            <a:off x="8610480" y="6400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4621680" y="160020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eenhouse g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2365920" y="579132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6144120" y="51814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ir pollution (smog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20:35:19Z</dcterms:created>
  <dc:creator>Stephen Schneider</dc:creator>
  <dc:description/>
  <dc:language>en-US</dc:language>
  <cp:lastModifiedBy>Stephen E. Schneider</cp:lastModifiedBy>
  <dcterms:modified xsi:type="dcterms:W3CDTF">2007-08-04T15:18:30Z</dcterms:modified>
  <cp:revision>162</cp:revision>
  <dc:subject/>
  <dc:title>Astronomy 100 – Exploring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astro.umass.edu/~schneide/A100</vt:lpwstr>
  </property>
  <property fmtid="{D5CDD505-2E9C-101B-9397-08002B2CF9AE}" pid="9" name="LinkColor">
    <vt:r8>16711782</vt:r8>
  </property>
  <property fmtid="{D5CDD505-2E9C-101B-9397-08002B2CF9AE}" pid="10" name="MailAddress">
    <vt:lpwstr>a100@messier.astro.umass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Astro 100\Lecture 0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