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868C8-39FA-4DDB-97EA-794094F55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0C70B-AF31-4890-8090-FA692E911232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11843-B5D4-4418-B7B1-A4F1CBF4DA23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1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ECC48-1808-4EE1-B9A6-961E56D0DFD3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18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541E5-2E43-4065-8150-8365C761BA04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17780-9141-49B5-8C4D-CB5350EAC634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18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 of Halley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voids October-70, 71,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is naturally low over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4 years shows the extremely low values over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-latitudes (high collar) has also de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30DC7-8B72-4EC8-9936-429EA09BBDC5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BEB-DADE-461A-BDB1-E2E85ED4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0F5-23FB-4277-8B74-4CA2A096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151-7EFF-4605-842C-EAC7D005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A1F-081F-44B3-ACE2-73ACD134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056C-FF76-4511-8811-A960C132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ED21-7CDB-4693-97E0-C187BA31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3065-CD14-4C7F-8778-D6BA0C0D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EA32-1B15-4A9D-8338-0E908609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D293-1377-4369-8901-402C756B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2947-5111-4BC1-A752-A69548DA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241E-6DD2-4CC9-A39E-7B48D60E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EE7-549F-49DF-8281-8F2C8102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702B-A526-41C6-8EBA-AD0B5FE5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310B-7A81-48F5-AC3B-488490E2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6900-185D-4A8F-AAB2-BCDADD44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ADB3-E1A2-446C-BAFA-7C5114BD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BF1C-75CA-4715-BEF9-7209BAE9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85A-28EA-41EE-B490-F2D7A7DA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342-5A8A-42E4-868C-D1D95D57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45B-F8C6-4B48-8676-1D878F66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ED4-E566-49ED-B7EC-E876D3D8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1B0-4ECD-42A9-93AD-F822256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90B-07B5-4BA3-BF49-61F2B4E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873-9BF1-40F1-935E-FE7121D1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1748-689D-40BA-88A7-B0F52C179DE1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E7BC-EA47-434D-80A5-343F05D5EEB8}" type="slidenum"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conbazaar.com/bars/contributed/pg04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61F3-F3AE-4551-8DF8-9480029A783C}" type="slidenum"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Ozone</a:t>
            </a:r>
            <a:br>
              <a:rPr sz="48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good &amp; ba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BE15-9989-48DD-AF5D-2F61F5F25C4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Line 2"/>
          <p:cNvSpPr/>
          <p:nvPr/>
        </p:nvSpPr>
        <p:spPr>
          <a:xfrm>
            <a:off x="1295280" y="526572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303200" y="206064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00320" y="1359000"/>
            <a:ext cx="6232320" cy="4419360"/>
          </a:xfrm>
          <a:prstGeom prst="rect">
            <a:avLst/>
          </a:prstGeom>
          <a:noFill/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3003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9922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6845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3376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068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4762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7532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" name="Group 23"/>
          <p:cNvGrpSpPr/>
          <p:nvPr/>
        </p:nvGrpSpPr>
        <p:grpSpPr>
          <a:xfrm>
            <a:off x="1295280" y="1359000"/>
            <a:ext cx="106200" cy="4419000"/>
            <a:chOff x="1295280" y="1359000"/>
            <a:chExt cx="106200" cy="4419000"/>
          </a:xfrm>
        </p:grpSpPr>
        <p:sp>
          <p:nvSpPr>
            <p:cNvPr id="103" name="Line 24"/>
            <p:cNvSpPr/>
            <p:nvPr/>
          </p:nvSpPr>
          <p:spPr>
            <a:xfrm>
              <a:off x="1295280" y="1359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>
              <a:off x="1295280" y="224208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>
              <a:off x="1295280" y="312516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Line 27"/>
            <p:cNvSpPr/>
            <p:nvPr/>
          </p:nvSpPr>
          <p:spPr>
            <a:xfrm>
              <a:off x="1295280" y="401004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>
              <a:off x="1295280" y="489312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>
              <a:off x="1295280" y="5778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" name="Line 30"/>
          <p:cNvSpPr/>
          <p:nvPr/>
        </p:nvSpPr>
        <p:spPr>
          <a:xfrm>
            <a:off x="7423200" y="13590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7423200" y="22096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423200" y="28954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Line 33"/>
          <p:cNvSpPr/>
          <p:nvPr/>
        </p:nvSpPr>
        <p:spPr>
          <a:xfrm>
            <a:off x="7423200" y="35812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34"/>
          <p:cNvSpPr/>
          <p:nvPr/>
        </p:nvSpPr>
        <p:spPr>
          <a:xfrm>
            <a:off x="7423200" y="43434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2788560" y="60958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Ozone (parts per m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968760" y="5578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834120" y="4694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834120" y="3809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834120" y="2925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8341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8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699480" y="1158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52"/>
          <p:cNvSpPr/>
          <p:nvPr/>
        </p:nvSpPr>
        <p:spPr>
          <a:xfrm rot="16200000">
            <a:off x="-315360" y="335124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k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53"/>
          <p:cNvSpPr/>
          <p:nvPr/>
        </p:nvSpPr>
        <p:spPr>
          <a:xfrm>
            <a:off x="1295280" y="358128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6075000" y="52815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rop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56"/>
          <p:cNvSpPr/>
          <p:nvPr/>
        </p:nvSpPr>
        <p:spPr>
          <a:xfrm>
            <a:off x="6119640" y="26780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Mes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7"/>
          <p:cNvSpPr/>
          <p:nvPr/>
        </p:nvSpPr>
        <p:spPr>
          <a:xfrm>
            <a:off x="5896440" y="1584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herm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Ozone In the Atmospher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7" name="Line 59"/>
          <p:cNvSpPr/>
          <p:nvPr/>
        </p:nvSpPr>
        <p:spPr>
          <a:xfrm>
            <a:off x="7439040" y="51055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 flipH="1" rot="5400000">
            <a:off x="7227000" y="329436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mi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7615800" y="4937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7618680" y="556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7615800" y="4175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7615800" y="3352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3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76158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76255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8"/>
          <p:cNvSpPr/>
          <p:nvPr/>
        </p:nvSpPr>
        <p:spPr>
          <a:xfrm>
            <a:off x="7615800" y="1219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69"/>
          <p:cNvSpPr/>
          <p:nvPr/>
        </p:nvSpPr>
        <p:spPr>
          <a:xfrm>
            <a:off x="7439040" y="14479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8"/>
          <p:cNvSpPr/>
          <p:nvPr/>
        </p:nvSpPr>
        <p:spPr>
          <a:xfrm>
            <a:off x="1523880" y="3917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700"/>
                </a:solidFill>
                <a:latin typeface="Times New Roman"/>
              </a:rPr>
              <a:t>90% of ozone is in the stratosph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Freeform 90"/>
          <p:cNvSpPr/>
          <p:nvPr/>
        </p:nvSpPr>
        <p:spPr>
          <a:xfrm>
            <a:off x="1295280" y="1371600"/>
            <a:ext cx="5386680" cy="4419720"/>
          </a:xfrm>
          <a:prstGeom prst="pie">
            <a:avLst/>
          </a:prstGeom>
          <a:noFill/>
          <a:ln w="57240">
            <a:solidFill>
              <a:srgbClr val="fff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91"/>
          <p:cNvSpPr/>
          <p:nvPr/>
        </p:nvSpPr>
        <p:spPr>
          <a:xfrm>
            <a:off x="11401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93"/>
          <p:cNvSpPr/>
          <p:nvPr/>
        </p:nvSpPr>
        <p:spPr>
          <a:xfrm>
            <a:off x="25243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95"/>
          <p:cNvSpPr/>
          <p:nvPr/>
        </p:nvSpPr>
        <p:spPr>
          <a:xfrm>
            <a:off x="39088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97"/>
          <p:cNvSpPr/>
          <p:nvPr/>
        </p:nvSpPr>
        <p:spPr>
          <a:xfrm>
            <a:off x="52930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66772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101"/>
          <p:cNvSpPr/>
          <p:nvPr/>
        </p:nvSpPr>
        <p:spPr>
          <a:xfrm>
            <a:off x="5454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102"/>
          <p:cNvSpPr/>
          <p:nvPr/>
        </p:nvSpPr>
        <p:spPr>
          <a:xfrm>
            <a:off x="6146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Line 103"/>
          <p:cNvSpPr/>
          <p:nvPr/>
        </p:nvSpPr>
        <p:spPr>
          <a:xfrm>
            <a:off x="68389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105"/>
          <p:cNvSpPr/>
          <p:nvPr/>
        </p:nvSpPr>
        <p:spPr>
          <a:xfrm>
            <a:off x="1828800" y="5257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700"/>
                </a:solidFill>
                <a:latin typeface="Times New Roman"/>
              </a:rPr>
              <a:t>10% of ozone is in the troposph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57A6-5DF6-41EF-B107-9D5CA0DD505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 rot="20042400">
            <a:off x="3209400" y="383760"/>
            <a:ext cx="155880" cy="5672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62"/>
          <p:cNvSpPr/>
          <p:nvPr/>
        </p:nvSpPr>
        <p:spPr>
          <a:xfrm rot="20042400">
            <a:off x="3059280" y="479160"/>
            <a:ext cx="152280" cy="5562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Rectangle 61"/>
          <p:cNvSpPr/>
          <p:nvPr/>
        </p:nvSpPr>
        <p:spPr>
          <a:xfrm rot="20042400">
            <a:off x="2883960" y="456840"/>
            <a:ext cx="152640" cy="5562720"/>
          </a:xfrm>
          <a:prstGeom prst="rect">
            <a:avLst/>
          </a:prstGeom>
          <a:gradFill rotWithShape="0">
            <a:gsLst>
              <a:gs pos="0">
                <a:srgbClr val="ff0086"/>
              </a:gs>
              <a:gs pos="100000">
                <a:srgbClr val="76003e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Rectangle 60"/>
          <p:cNvSpPr/>
          <p:nvPr/>
        </p:nvSpPr>
        <p:spPr>
          <a:xfrm rot="20042400">
            <a:off x="2347920" y="568080"/>
            <a:ext cx="147600" cy="3787560"/>
          </a:xfrm>
          <a:prstGeom prst="rect">
            <a:avLst/>
          </a:prstGeom>
          <a:gradFill rotWithShape="0">
            <a:gsLst>
              <a:gs pos="0">
                <a:srgbClr val="e300ff"/>
              </a:gs>
              <a:gs pos="100000">
                <a:srgbClr val="6900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7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Freeform 49"/>
          <p:cNvSpPr/>
          <p:nvPr/>
        </p:nvSpPr>
        <p:spPr>
          <a:xfrm>
            <a:off x="1295280" y="1371600"/>
            <a:ext cx="5386680" cy="4419720"/>
          </a:xfrm>
          <a:prstGeom prst="pie">
            <a:avLst/>
          </a:prstGeom>
          <a:noFill/>
          <a:ln w="57240">
            <a:solidFill>
              <a:srgbClr val="fff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59" descr="latest_solisHe"/>
          <p:cNvPicPr/>
          <p:nvPr/>
        </p:nvPicPr>
        <p:blipFill>
          <a:blip r:embed="rId1"/>
          <a:srcRect l="0" t="31092" r="0" b="0"/>
          <a:stretch/>
        </p:blipFill>
        <p:spPr>
          <a:xfrm>
            <a:off x="914400" y="0"/>
            <a:ext cx="1447920" cy="996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4"/>
          <p:cNvSpPr/>
          <p:nvPr/>
        </p:nvSpPr>
        <p:spPr>
          <a:xfrm>
            <a:off x="3033720" y="21337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00ff"/>
                </a:solidFill>
                <a:latin typeface="Times New Roman"/>
              </a:rPr>
              <a:t>UVc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- 100% Absorp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65"/>
          <p:cNvSpPr/>
          <p:nvPr/>
        </p:nvSpPr>
        <p:spPr>
          <a:xfrm>
            <a:off x="3173760" y="24163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6"/>
                </a:solidFill>
                <a:latin typeface="Times New Roman"/>
              </a:rPr>
              <a:t>UVb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- 90% Absorp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>
            <a:off x="3375360" y="26989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UVa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- 50% Absorption &amp; Scatt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69"/>
          <p:cNvSpPr/>
          <p:nvPr/>
        </p:nvSpPr>
        <p:spPr>
          <a:xfrm>
            <a:off x="3111480" y="76212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700"/>
                </a:solidFill>
                <a:latin typeface="Times New Roman"/>
              </a:rPr>
              <a:t>Ozone is the Earth’s natural sunscre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295280" y="526572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71"/>
          <p:cNvSpPr/>
          <p:nvPr/>
        </p:nvSpPr>
        <p:spPr>
          <a:xfrm>
            <a:off x="1303200" y="206064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1300320" y="1359000"/>
            <a:ext cx="6232320" cy="4419360"/>
          </a:xfrm>
          <a:prstGeom prst="rect">
            <a:avLst/>
          </a:prstGeom>
          <a:noFill/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Line 73"/>
          <p:cNvSpPr/>
          <p:nvPr/>
        </p:nvSpPr>
        <p:spPr>
          <a:xfrm>
            <a:off x="13003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Line 74"/>
          <p:cNvSpPr/>
          <p:nvPr/>
        </p:nvSpPr>
        <p:spPr>
          <a:xfrm>
            <a:off x="19922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75"/>
          <p:cNvSpPr/>
          <p:nvPr/>
        </p:nvSpPr>
        <p:spPr>
          <a:xfrm>
            <a:off x="26845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Line 76"/>
          <p:cNvSpPr/>
          <p:nvPr/>
        </p:nvSpPr>
        <p:spPr>
          <a:xfrm>
            <a:off x="3376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77"/>
          <p:cNvSpPr/>
          <p:nvPr/>
        </p:nvSpPr>
        <p:spPr>
          <a:xfrm>
            <a:off x="4068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78"/>
          <p:cNvSpPr/>
          <p:nvPr/>
        </p:nvSpPr>
        <p:spPr>
          <a:xfrm>
            <a:off x="4762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79"/>
          <p:cNvSpPr/>
          <p:nvPr/>
        </p:nvSpPr>
        <p:spPr>
          <a:xfrm>
            <a:off x="7532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0" name="Group 80"/>
          <p:cNvGrpSpPr/>
          <p:nvPr/>
        </p:nvGrpSpPr>
        <p:grpSpPr>
          <a:xfrm>
            <a:off x="1295280" y="1359000"/>
            <a:ext cx="106200" cy="4419000"/>
            <a:chOff x="1295280" y="1359000"/>
            <a:chExt cx="106200" cy="4419000"/>
          </a:xfrm>
        </p:grpSpPr>
        <p:sp>
          <p:nvSpPr>
            <p:cNvPr id="171" name="Line 81"/>
            <p:cNvSpPr/>
            <p:nvPr/>
          </p:nvSpPr>
          <p:spPr>
            <a:xfrm>
              <a:off x="1295280" y="1359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>
              <a:off x="1295280" y="224208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>
              <a:off x="1295280" y="312516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>
              <a:off x="1295280" y="401004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>
              <a:off x="1295280" y="489312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>
              <a:off x="1295280" y="5778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7" name="Line 87"/>
          <p:cNvSpPr/>
          <p:nvPr/>
        </p:nvSpPr>
        <p:spPr>
          <a:xfrm>
            <a:off x="7423200" y="13590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Line 88"/>
          <p:cNvSpPr/>
          <p:nvPr/>
        </p:nvSpPr>
        <p:spPr>
          <a:xfrm>
            <a:off x="7423200" y="22096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89"/>
          <p:cNvSpPr/>
          <p:nvPr/>
        </p:nvSpPr>
        <p:spPr>
          <a:xfrm>
            <a:off x="7423200" y="28954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90"/>
          <p:cNvSpPr/>
          <p:nvPr/>
        </p:nvSpPr>
        <p:spPr>
          <a:xfrm>
            <a:off x="7423200" y="35812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Line 91"/>
          <p:cNvSpPr/>
          <p:nvPr/>
        </p:nvSpPr>
        <p:spPr>
          <a:xfrm>
            <a:off x="7423200" y="43434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2"/>
          <p:cNvSpPr/>
          <p:nvPr/>
        </p:nvSpPr>
        <p:spPr>
          <a:xfrm>
            <a:off x="3341160" y="60958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Ozone (parts per m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3"/>
          <p:cNvSpPr/>
          <p:nvPr/>
        </p:nvSpPr>
        <p:spPr>
          <a:xfrm>
            <a:off x="966960" y="5578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4"/>
          <p:cNvSpPr/>
          <p:nvPr/>
        </p:nvSpPr>
        <p:spPr>
          <a:xfrm>
            <a:off x="832320" y="4694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95"/>
          <p:cNvSpPr/>
          <p:nvPr/>
        </p:nvSpPr>
        <p:spPr>
          <a:xfrm>
            <a:off x="832320" y="3809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96"/>
          <p:cNvSpPr/>
          <p:nvPr/>
        </p:nvSpPr>
        <p:spPr>
          <a:xfrm>
            <a:off x="832320" y="2925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 Box 97"/>
          <p:cNvSpPr/>
          <p:nvPr/>
        </p:nvSpPr>
        <p:spPr>
          <a:xfrm>
            <a:off x="8323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8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98"/>
          <p:cNvSpPr/>
          <p:nvPr/>
        </p:nvSpPr>
        <p:spPr>
          <a:xfrm>
            <a:off x="697680" y="1158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99"/>
          <p:cNvSpPr/>
          <p:nvPr/>
        </p:nvSpPr>
        <p:spPr>
          <a:xfrm rot="16200000">
            <a:off x="-315360" y="33526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k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00"/>
          <p:cNvSpPr/>
          <p:nvPr/>
        </p:nvSpPr>
        <p:spPr>
          <a:xfrm>
            <a:off x="1295280" y="358128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101"/>
          <p:cNvSpPr/>
          <p:nvPr/>
        </p:nvSpPr>
        <p:spPr>
          <a:xfrm>
            <a:off x="6075000" y="52815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rop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102"/>
          <p:cNvSpPr/>
          <p:nvPr/>
        </p:nvSpPr>
        <p:spPr>
          <a:xfrm>
            <a:off x="6021360" y="2209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Mes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103"/>
          <p:cNvSpPr/>
          <p:nvPr/>
        </p:nvSpPr>
        <p:spPr>
          <a:xfrm>
            <a:off x="5896440" y="1584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herm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4"/>
          <p:cNvSpPr/>
          <p:nvPr/>
        </p:nvSpPr>
        <p:spPr>
          <a:xfrm>
            <a:off x="7439040" y="51055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105"/>
          <p:cNvSpPr/>
          <p:nvPr/>
        </p:nvSpPr>
        <p:spPr>
          <a:xfrm flipH="1" rot="5400000">
            <a:off x="7228440" y="329580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mi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106"/>
          <p:cNvSpPr/>
          <p:nvPr/>
        </p:nvSpPr>
        <p:spPr>
          <a:xfrm>
            <a:off x="7614360" y="4937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107"/>
          <p:cNvSpPr/>
          <p:nvPr/>
        </p:nvSpPr>
        <p:spPr>
          <a:xfrm>
            <a:off x="7617240" y="556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108"/>
          <p:cNvSpPr/>
          <p:nvPr/>
        </p:nvSpPr>
        <p:spPr>
          <a:xfrm>
            <a:off x="7614360" y="4175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109"/>
          <p:cNvSpPr/>
          <p:nvPr/>
        </p:nvSpPr>
        <p:spPr>
          <a:xfrm>
            <a:off x="7614360" y="3352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3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110"/>
          <p:cNvSpPr/>
          <p:nvPr/>
        </p:nvSpPr>
        <p:spPr>
          <a:xfrm>
            <a:off x="761436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111"/>
          <p:cNvSpPr/>
          <p:nvPr/>
        </p:nvSpPr>
        <p:spPr>
          <a:xfrm>
            <a:off x="76237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Text Box 112"/>
          <p:cNvSpPr/>
          <p:nvPr/>
        </p:nvSpPr>
        <p:spPr>
          <a:xfrm>
            <a:off x="7614360" y="1219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13"/>
          <p:cNvSpPr/>
          <p:nvPr/>
        </p:nvSpPr>
        <p:spPr>
          <a:xfrm>
            <a:off x="7439040" y="14479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Text Box 114"/>
          <p:cNvSpPr/>
          <p:nvPr/>
        </p:nvSpPr>
        <p:spPr>
          <a:xfrm>
            <a:off x="11401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115"/>
          <p:cNvSpPr/>
          <p:nvPr/>
        </p:nvSpPr>
        <p:spPr>
          <a:xfrm>
            <a:off x="25243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116"/>
          <p:cNvSpPr/>
          <p:nvPr/>
        </p:nvSpPr>
        <p:spPr>
          <a:xfrm>
            <a:off x="39088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117"/>
          <p:cNvSpPr/>
          <p:nvPr/>
        </p:nvSpPr>
        <p:spPr>
          <a:xfrm>
            <a:off x="52930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118"/>
          <p:cNvSpPr/>
          <p:nvPr/>
        </p:nvSpPr>
        <p:spPr>
          <a:xfrm>
            <a:off x="66772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119"/>
          <p:cNvSpPr/>
          <p:nvPr/>
        </p:nvSpPr>
        <p:spPr>
          <a:xfrm>
            <a:off x="5454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Line 120"/>
          <p:cNvSpPr/>
          <p:nvPr/>
        </p:nvSpPr>
        <p:spPr>
          <a:xfrm>
            <a:off x="6146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Line 121"/>
          <p:cNvSpPr/>
          <p:nvPr/>
        </p:nvSpPr>
        <p:spPr>
          <a:xfrm>
            <a:off x="68389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4D28-4F25-4B0D-B316-B53DE447F08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65240" y="1555920"/>
            <a:ext cx="8813520" cy="38145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s that Destroy Stratospheric Ozon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229040" y="5502240"/>
            <a:ext cx="6842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 is much more abundant than B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r is about 50 times more effective at 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estru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1462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656360" y="6491160"/>
            <a:ext cx="58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rom Ozone FAQ - see http://www.unep.org/ozone/faq.shtm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34A7-3969-4F81-AFA2-0B6FCAED137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6440" y="122040"/>
            <a:ext cx="7772400" cy="6858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ctober Average Ozone Hol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20" name="Picture 7" descr="aa 2"/>
          <p:cNvPicPr/>
          <p:nvPr/>
        </p:nvPicPr>
        <p:blipFill>
          <a:blip r:embed="rId1"/>
          <a:srcRect l="7578" t="16667" r="6819" b="9802"/>
          <a:stretch/>
        </p:blipFill>
        <p:spPr>
          <a:xfrm>
            <a:off x="270000" y="990720"/>
            <a:ext cx="8610480" cy="5715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619000" y="6353280"/>
            <a:ext cx="80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687640" y="6354720"/>
            <a:ext cx="80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1523880"/>
            <a:ext cx="9220320" cy="487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3048120" y="6400800"/>
            <a:ext cx="2514600" cy="457200"/>
          </a:xfrm>
          <a:prstGeom prst="pie">
            <a:avLst/>
          </a:pr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5" name="Picture 4" descr="forest">
            <a:hlinkClick r:id="rId1"/>
          </p:cNvPr>
          <p:cNvPicPr/>
          <p:nvPr/>
        </p:nvPicPr>
        <p:blipFill>
          <a:blip r:embed="rId2"/>
          <a:srcRect l="0" t="0" r="72424" b="0"/>
          <a:stretch/>
        </p:blipFill>
        <p:spPr>
          <a:xfrm>
            <a:off x="1600200" y="6151680"/>
            <a:ext cx="1289160" cy="24912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5"/>
          <p:cNvSpPr/>
          <p:nvPr/>
        </p:nvSpPr>
        <p:spPr>
          <a:xfrm>
            <a:off x="-76320" y="6400800"/>
            <a:ext cx="3429000" cy="457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7" name="Picture 6" descr="forest"/>
          <p:cNvPicPr/>
          <p:nvPr/>
        </p:nvPicPr>
        <p:blipFill>
          <a:blip r:embed="rId3"/>
          <a:srcRect l="0" t="0" r="72424" b="0"/>
          <a:stretch/>
        </p:blipFill>
        <p:spPr>
          <a:xfrm>
            <a:off x="7010280" y="6151680"/>
            <a:ext cx="1289160" cy="249120"/>
          </a:xfrm>
          <a:prstGeom prst="rect">
            <a:avLst/>
          </a:prstGeom>
          <a:ln w="0">
            <a:noFill/>
          </a:ln>
        </p:spPr>
      </p:pic>
      <p:sp>
        <p:nvSpPr>
          <p:cNvPr id="228" name="Freeform 7"/>
          <p:cNvSpPr/>
          <p:nvPr/>
        </p:nvSpPr>
        <p:spPr>
          <a:xfrm flipH="1">
            <a:off x="5257080" y="6400800"/>
            <a:ext cx="3352680" cy="457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251760" y="5410080"/>
            <a:ext cx="831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O</a:t>
            </a:r>
            <a:r>
              <a:rPr b="1" lang="en-US" sz="1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MVO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7467480" y="5486400"/>
            <a:ext cx="609840" cy="609480"/>
          </a:xfrm>
          <a:prstGeom prst="rightArrowCallout">
            <a:avLst>
              <a:gd name="adj1" fmla="val 16150"/>
              <a:gd name="adj2" fmla="val 23176"/>
              <a:gd name="adj3" fmla="val 41228"/>
              <a:gd name="adj4" fmla="val 451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2209680" y="3809880"/>
            <a:ext cx="5105520" cy="2057400"/>
          </a:xfrm>
          <a:prstGeom prst="pie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993960" y="5335560"/>
            <a:ext cx="831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O</a:t>
            </a:r>
            <a:r>
              <a:rPr b="1" lang="en-US" sz="1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MVO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209680" y="5334120"/>
            <a:ext cx="609840" cy="609480"/>
          </a:xfrm>
          <a:prstGeom prst="rightArrowCallout">
            <a:avLst>
              <a:gd name="adj1" fmla="val 16150"/>
              <a:gd name="adj2" fmla="val 23176"/>
              <a:gd name="adj3" fmla="val 41228"/>
              <a:gd name="adj4" fmla="val 451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179400" y="641520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CONTINENT 2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3815280" y="640080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OCEA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8159760" y="5562720"/>
            <a:ext cx="37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7395840" y="4189320"/>
            <a:ext cx="137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Boundary lay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(0-2.5 km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6934680" y="199548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Free Tropospher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826200" y="641520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CONTINENT 1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pospheric ozone links air pollution &amp; climate chan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) primary constituent of smog in surface air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R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991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st important greenhouse gas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P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1]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457200" y="5562720"/>
          <a:ext cx="45720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5562720"/>
                    <a:ext cx="45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3"/>
          <p:cNvGraphicFramePr/>
          <p:nvPr/>
        </p:nvGraphicFramePr>
        <p:xfrm>
          <a:off x="5791320" y="5562720"/>
          <a:ext cx="45720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5562720"/>
                    <a:ext cx="45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6324480" y="6068880"/>
          <a:ext cx="685800" cy="33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24480" y="6068880"/>
                    <a:ext cx="6858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990720" y="6068880"/>
          <a:ext cx="685800" cy="33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0720" y="6068880"/>
                    <a:ext cx="6858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5"/>
          <p:cNvSpPr/>
          <p:nvPr/>
        </p:nvSpPr>
        <p:spPr>
          <a:xfrm>
            <a:off x="244440" y="391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385640" y="3990960"/>
            <a:ext cx="50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HO</a:t>
            </a:r>
            <a:r>
              <a:rPr b="1" lang="en-US" sz="1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27"/>
          <p:cNvSpPr/>
          <p:nvPr/>
        </p:nvSpPr>
        <p:spPr>
          <a:xfrm>
            <a:off x="392040" y="2556000"/>
            <a:ext cx="1554120" cy="315720"/>
          </a:xfrm>
          <a:custGeom>
            <a:avLst/>
            <a:gdLst>
              <a:gd name="textAreaLeft" fmla="*/ 276480 w 1554120"/>
              <a:gd name="textAreaRight" fmla="*/ 1066320 w 155412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90" hR="21600" stAng="10800000" swAng="5400000"/>
                <a:lnTo>
                  <a:pt x="10972" y="0"/>
                </a:lnTo>
                <a:arcTo wR="7690" hR="21600" stAng="-5400000" swAng="2608245"/>
                <a:lnTo>
                  <a:pt x="21109" y="14006"/>
                </a:lnTo>
                <a:lnTo>
                  <a:pt x="17021" y="21600"/>
                </a:lnTo>
                <a:lnTo>
                  <a:pt x="11951" y="14006"/>
                </a:lnTo>
                <a:lnTo>
                  <a:pt x="14889" y="14006"/>
                </a:lnTo>
                <a:arcTo wR="7690" hR="21600" stAng="-2791755" swAng="-2341451"/>
                <a:lnTo>
                  <a:pt x="9331" y="498"/>
                </a:lnTo>
                <a:arcTo wR="7690" hR="21600" stAng="-5666794" swAng="-5133206"/>
                <a:close/>
              </a:path>
              <a:path fill="darkenLess" w="21600" h="21600">
                <a:moveTo>
                  <a:pt x="0" y="21600"/>
                </a:moveTo>
                <a:arcTo wR="7690" hR="21600" stAng="10800000" swAng="5400000"/>
                <a:lnTo>
                  <a:pt x="7690" y="0"/>
                </a:lnTo>
                <a:arcTo wR="7690" hR="21600" stAng="-5400000" swAng="266794"/>
                <a:lnTo>
                  <a:pt x="9331" y="498"/>
                </a:lnTo>
                <a:arcTo wR="7690" hR="21600" stAng="-5666794" swAng="-5133206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AutoShape 28"/>
          <p:cNvSpPr/>
          <p:nvPr/>
        </p:nvSpPr>
        <p:spPr>
          <a:xfrm rot="10674000">
            <a:off x="228240" y="3187440"/>
            <a:ext cx="1554120" cy="315720"/>
          </a:xfrm>
          <a:custGeom>
            <a:avLst/>
            <a:gdLst>
              <a:gd name="textAreaLeft" fmla="*/ 276480 w 1554120"/>
              <a:gd name="textAreaRight" fmla="*/ 1066320 w 155412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90" hR="21600" stAng="10800000" swAng="5400000"/>
                <a:lnTo>
                  <a:pt x="10972" y="0"/>
                </a:lnTo>
                <a:arcTo wR="7690" hR="21600" stAng="-5400000" swAng="2608245"/>
                <a:lnTo>
                  <a:pt x="21109" y="14006"/>
                </a:lnTo>
                <a:lnTo>
                  <a:pt x="17021" y="21600"/>
                </a:lnTo>
                <a:lnTo>
                  <a:pt x="11951" y="14006"/>
                </a:lnTo>
                <a:lnTo>
                  <a:pt x="14889" y="14006"/>
                </a:lnTo>
                <a:arcTo wR="7690" hR="21600" stAng="-2791755" swAng="-2341451"/>
                <a:lnTo>
                  <a:pt x="9331" y="498"/>
                </a:lnTo>
                <a:arcTo wR="7690" hR="21600" stAng="-5666794" swAng="-5133206"/>
                <a:close/>
              </a:path>
              <a:path fill="darkenLess" w="21600" h="21600">
                <a:moveTo>
                  <a:pt x="0" y="21600"/>
                </a:moveTo>
                <a:arcTo wR="7690" hR="21600" stAng="10800000" swAng="5400000"/>
                <a:lnTo>
                  <a:pt x="7690" y="0"/>
                </a:lnTo>
                <a:arcTo wR="7690" hR="21600" stAng="-5400000" swAng="266794"/>
                <a:lnTo>
                  <a:pt x="9331" y="498"/>
                </a:lnTo>
                <a:arcTo wR="7690" hR="21600" stAng="-5666794" swAng="-5133206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307800" y="4741920"/>
            <a:ext cx="1347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OC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C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1378080" y="2833560"/>
            <a:ext cx="6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317160" y="2847960"/>
            <a:ext cx="50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AutoShape 32"/>
          <p:cNvSpPr/>
          <p:nvPr/>
        </p:nvSpPr>
        <p:spPr>
          <a:xfrm>
            <a:off x="351000" y="4359240"/>
            <a:ext cx="1555560" cy="379440"/>
          </a:xfrm>
          <a:custGeom>
            <a:avLst/>
            <a:gdLst>
              <a:gd name="textAreaLeft" fmla="*/ 295560 w 1555560"/>
              <a:gd name="textAreaRight" fmla="*/ 1104840 w 1555560"/>
              <a:gd name="textAreaTop" fmla="*/ 50760 h 379440"/>
              <a:gd name="textAreaBottom" fmla="*/ 328680 h 3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-2926766"/>
                <a:lnTo>
                  <a:pt x="21179" y="6826"/>
                </a:lnTo>
                <a:lnTo>
                  <a:pt x="17935" y="0"/>
                </a:lnTo>
                <a:lnTo>
                  <a:pt x="13849" y="6826"/>
                </a:lnTo>
                <a:lnTo>
                  <a:pt x="16004" y="6826"/>
                </a:lnTo>
                <a:arcTo wR="8213" hR="21600" stAng="2473234" swAng="2682685"/>
                <a:lnTo>
                  <a:pt x="9723" y="21232"/>
                </a:lnTo>
                <a:arcTo wR="8213" hR="21600" stAng="5644081" swAng="5155919"/>
                <a:close/>
              </a:path>
              <a:path fill="darkenLess"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244081"/>
                <a:lnTo>
                  <a:pt x="9723" y="21232"/>
                </a:lnTo>
                <a:arcTo wR="8213" hR="21600" stAng="5644081" swAng="5155919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AutoShape 33"/>
          <p:cNvSpPr/>
          <p:nvPr/>
        </p:nvSpPr>
        <p:spPr>
          <a:xfrm rot="10650600">
            <a:off x="228240" y="3541680"/>
            <a:ext cx="1554120" cy="379440"/>
          </a:xfrm>
          <a:custGeom>
            <a:avLst/>
            <a:gdLst>
              <a:gd name="textAreaLeft" fmla="*/ 295200 w 1554120"/>
              <a:gd name="textAreaRight" fmla="*/ 1103760 w 1554120"/>
              <a:gd name="textAreaTop" fmla="*/ 50760 h 379440"/>
              <a:gd name="textAreaBottom" fmla="*/ 328680 h 3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-2926766"/>
                <a:lnTo>
                  <a:pt x="21179" y="6826"/>
                </a:lnTo>
                <a:lnTo>
                  <a:pt x="17935" y="0"/>
                </a:lnTo>
                <a:lnTo>
                  <a:pt x="13849" y="6826"/>
                </a:lnTo>
                <a:lnTo>
                  <a:pt x="16004" y="6826"/>
                </a:lnTo>
                <a:arcTo wR="8213" hR="21600" stAng="2473234" swAng="2682685"/>
                <a:lnTo>
                  <a:pt x="9723" y="21232"/>
                </a:lnTo>
                <a:arcTo wR="8213" hR="21600" stAng="5644081" swAng="5155919"/>
                <a:close/>
              </a:path>
              <a:path fill="darkenLess"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244081"/>
                <a:lnTo>
                  <a:pt x="9723" y="21232"/>
                </a:lnTo>
                <a:arcTo wR="8213" hR="21600" stAng="5644081" swAng="5155919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923400" y="213372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66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AutoShape 35"/>
          <p:cNvSpPr/>
          <p:nvPr/>
        </p:nvSpPr>
        <p:spPr>
          <a:xfrm>
            <a:off x="1523880" y="2209680"/>
            <a:ext cx="2210040" cy="228600"/>
          </a:xfrm>
          <a:prstGeom prst="rightArrow">
            <a:avLst>
              <a:gd name="adj1" fmla="val 30065"/>
              <a:gd name="adj2" fmla="val 25310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AutoShape 36"/>
          <p:cNvSpPr/>
          <p:nvPr/>
        </p:nvSpPr>
        <p:spPr>
          <a:xfrm>
            <a:off x="3657600" y="1523880"/>
            <a:ext cx="1523880" cy="2210040"/>
          </a:xfrm>
          <a:prstGeom prst="irregularSeal1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Text Box 37"/>
          <p:cNvSpPr/>
          <p:nvPr/>
        </p:nvSpPr>
        <p:spPr>
          <a:xfrm>
            <a:off x="2826000" y="5410080"/>
            <a:ext cx="37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5554080" y="290988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Hemispheric Pollut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2896920" y="420516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Direct Intercontinental Transpor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40"/>
          <p:cNvSpPr/>
          <p:nvPr/>
        </p:nvSpPr>
        <p:spPr>
          <a:xfrm rot="2287800">
            <a:off x="4495680" y="3124080"/>
            <a:ext cx="1965600" cy="457200"/>
          </a:xfrm>
          <a:prstGeom prst="rightArrow">
            <a:avLst>
              <a:gd name="adj1" fmla="val 50000"/>
              <a:gd name="adj2" fmla="val 10748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Line 41"/>
          <p:cNvSpPr/>
          <p:nvPr/>
        </p:nvSpPr>
        <p:spPr>
          <a:xfrm>
            <a:off x="8610480" y="6400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4621680" y="1600200"/>
            <a:ext cx="15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reenhouse g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2365920" y="579132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ir pollution (smog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6144120" y="518148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ir pollution (smog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20:35:19Z</dcterms:created>
  <dc:creator>Stephen Schneider</dc:creator>
  <dc:description/>
  <dc:language>en-US</dc:language>
  <cp:lastModifiedBy>Stephen E. Schneider</cp:lastModifiedBy>
  <dcterms:modified xsi:type="dcterms:W3CDTF">2007-08-04T15:18:30Z</dcterms:modified>
  <cp:revision>162</cp:revision>
  <dc:subject/>
  <dc:title>Astronomy 100 – Exploring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astro.umass.edu/~schneide/A100</vt:lpwstr>
  </property>
  <property fmtid="{D5CDD505-2E9C-101B-9397-08002B2CF9AE}" pid="9" name="LinkColor">
    <vt:r8>16711782</vt:r8>
  </property>
  <property fmtid="{D5CDD505-2E9C-101B-9397-08002B2CF9AE}" pid="10" name="MailAddress">
    <vt:lpwstr>a100@messier.astro.umass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Astro 100\Lecture 0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