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50FB9D-A699-425B-87B1-C4F2EF6D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 for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Good local job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ntribute to local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lean industrial/manufacturin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pture economic benefits of environmental man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38E18F-07C8-49F3-9BF6-8C5AF451B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794E48-A54D-4CEA-AE19-302253E95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you leverage the clean tech opportunities in your co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579B0EB-908F-4CF6-8BA8-5841C7CE4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’s the clean tech deal flow in your co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n Jose is committed to working on the demand side in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tting goals and adopting policies and standards that drive demand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---  as we saw in the previous slide.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  ALSO support companies that are forming and growing to provide clean technology solutions to help move the needle on our local, state and national goals around sustainability and economic developmen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.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ity Staff works in 4 key areas to implement this Strategy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Incubation of Clean Tech Companies, Demonstration and Proof of Concept of new technologies, Collaborative Stakeholder Efforts and Business Support. Focus on the 1</a:t>
            </a:r>
            <a:r>
              <a:rPr b="0" lang="fr-BE" sz="12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s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three today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4010040" y="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D1A9F4AD-01AA-4540-BC74-07321E15F4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4010040" y="894888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fld id="{941E2469-D01B-4A31-88AE-DAA02A38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825F48-8D4C-4F61-AB22-ABAF3492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453992-71B8-48EF-BF70-C4434F5D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783E0D-10FC-4A48-96B8-3A77859D3C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0F0F44-CFE8-4B7C-A3E7-2C58CB6E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3720"/>
            <a:ext cx="5661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4FB2AE-87D5-4071-B947-FB213C8B3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F80-F45D-4E71-98D6-375FF149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816-D5AF-40B3-AEA3-95BF4FEA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B94-5C20-4583-9B97-D5E7A2A0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50D-F124-475E-8D8F-A0F4ED0E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78E7-6F0A-45ED-9E12-D0BDBBB5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2850-2419-40DC-99CC-5FC036D3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83D9-5EBF-4F16-B100-9E7A251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17BA-5B75-41F6-A02B-3DDE74A3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6CE0-9A2A-4EE3-A38B-E428618D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66640" y="133200"/>
            <a:ext cx="7600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CD4B-4D93-4BFA-BAE2-9572B864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A126-692E-46F5-A510-45298B1F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B97-6839-4F23-B021-8FA66D11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6C32-1A5F-4F8C-A602-EB3C564B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9B11-3A4B-4264-AD35-EFCEC30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496F-1E98-4DD6-BA06-5A2DDC42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A63-2A16-426B-AAD5-B8EABE74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76FF-4BC2-478B-A5A2-1E0DE171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43A-3892-4051-A51B-0537912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259-197C-46A5-91EB-A268F861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F54-135A-4D06-96D4-C004EB82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66640" y="133200"/>
            <a:ext cx="7600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851-3F60-4903-8622-261B71F0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0C1-105E-4EFA-93D5-1D42B5AC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ACE-A693-4406-9EEA-A5F3CD86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38C-EEC7-4FB0-BF77-4EB75D6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BCD_red copy"/>
          <p:cNvPicPr/>
          <p:nvPr/>
        </p:nvPicPr>
        <p:blipFill>
          <a:blip r:embed="rId2"/>
          <a:stretch/>
        </p:blipFill>
        <p:spPr>
          <a:xfrm>
            <a:off x="0" y="0"/>
            <a:ext cx="1376280" cy="137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961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357-EA79-45F9-BD6C-92DEC94AA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1" descr="black_line"/>
          <p:cNvPicPr/>
          <p:nvPr/>
        </p:nvPicPr>
        <p:blipFill>
          <a:blip r:embed="rId3"/>
          <a:stretch/>
        </p:blipFill>
        <p:spPr>
          <a:xfrm>
            <a:off x="0" y="1360440"/>
            <a:ext cx="914400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3" descr="BCD_red copy"/>
          <p:cNvPicPr/>
          <p:nvPr/>
        </p:nvPicPr>
        <p:blipFill>
          <a:blip r:embed="rId2"/>
          <a:stretch/>
        </p:blipFill>
        <p:spPr>
          <a:xfrm>
            <a:off x="0" y="13525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lack_line_title"/>
          <p:cNvPicPr/>
          <p:nvPr/>
        </p:nvPicPr>
        <p:blipFill>
          <a:blip r:embed="rId3"/>
          <a:stretch/>
        </p:blipFill>
        <p:spPr>
          <a:xfrm>
            <a:off x="0" y="3084480"/>
            <a:ext cx="9144000" cy="30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495920" y="6248520"/>
            <a:ext cx="110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347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D36-1142-4C5C-A8E6-04D71FB7B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leantechlosangeles.org/projects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jim@clusterdevelopment.com" TargetMode="External"/><Relationship Id="rId2" Type="http://schemas.openxmlformats.org/officeDocument/2006/relationships/hyperlink" Target="http://www.clusterdevelopmen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A793-B5BD-4D7A-82C4-9FEF4D46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0" y="1650960"/>
            <a:ext cx="914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portunity In New Engla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6 Green Challenge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$2M/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1, the New England Clean Energy Foundation received a $1.25M  i6 Green Challenge Gra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k and leverage existing resources and program online through forums, events an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funding and services to help commercialize cleantech innovations across the states involved, including demonstration sites, incubation services, technical assistance &amp;access to angel/VC inves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veloping Your Clean Energy Regional Innovation Clus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4FDA-7044-40B1-8222-958C3D4E5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0" y="16686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2"/>
          <p:cNvSpPr/>
          <p:nvPr/>
        </p:nvSpPr>
        <p:spPr>
          <a:xfrm>
            <a:off x="3378240" y="3165480"/>
            <a:ext cx="3268800" cy="3201840"/>
          </a:xfrm>
          <a:prstGeom prst="ellipse">
            <a:avLst/>
          </a:prstGeom>
          <a:solidFill>
            <a:srgbClr val="ffff00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1752480" y="3178080"/>
            <a:ext cx="3237120" cy="3205080"/>
          </a:xfrm>
          <a:prstGeom prst="ellipse">
            <a:avLst/>
          </a:prstGeom>
          <a:solidFill>
            <a:srgbClr val="99ccff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2670120" y="1871640"/>
            <a:ext cx="3002040" cy="3046320"/>
          </a:xfrm>
          <a:prstGeom prst="ellipse">
            <a:avLst/>
          </a:prstGeom>
          <a:solidFill>
            <a:srgbClr val="99cc00">
              <a:alpha val="4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763800" y="3525840"/>
            <a:ext cx="169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411360" y="2573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897200" y="477504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156280" y="488952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487680" y="375912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 Energy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560" y="16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7e3a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4d7e3a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pportunity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obs In Clean Tech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11E1-B147-405E-B9E3-142C58EB1D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14400" y="1608120"/>
            <a:ext cx="9129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Your Clean Energy Cluste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 often, plans at regional levels fail to translate into local start-ups &amp; jo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New England can operate as a regional powerhouse, Western MA needs to develop its own cleantech strategy and identity in order to benef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you define your local Clus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F76D-1CCA-40D7-BA7D-253E1D92F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CD Copyright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60AD-4774-46AE-9D38-7DA75B35F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uster Best Practic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t with 6 Building Blo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23880" y="1905120"/>
          <a:ext cx="70264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0264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62320" y="4419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3886200" y="4419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410080" y="4419720"/>
            <a:ext cx="1214640" cy="1214280"/>
          </a:xfrm>
          <a:prstGeom prst="cube">
            <a:avLst>
              <a:gd name="adj" fmla="val 25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276720" y="3276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4114800" y="2057400"/>
            <a:ext cx="1214280" cy="1214280"/>
          </a:xfrm>
          <a:prstGeom prst="cube">
            <a:avLst>
              <a:gd name="adj" fmla="val 25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4800600" y="3200400"/>
            <a:ext cx="1214280" cy="12142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39200" y="2514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3202200" y="37339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879440" y="36576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752480" y="487692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preneu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182920" y="48769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811680" y="50292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&amp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our Commun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7464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right fit for your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 with regional innovation or local economic develop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local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o strengthen the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 funding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Energy Incubator can be a catalyst – can add sector to existing incub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S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F2F5-0944-4F9D-8B61-DCCE5E88D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0" y="1557360"/>
            <a:ext cx="9067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8FFF-BB63-4859-A6BE-2245188A4E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73120" y="2006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tech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academic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– faculty &amp;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arch La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,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989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/Establish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of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partners for commer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usiness start-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Associations &amp;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&amp; test b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6480" y="1294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veloping a Clean Energy Regional Innovation Clus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03200" y="4055760"/>
            <a:ext cx="64771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James Robb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ean Energy Connections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vember 2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gional and Local Ass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03200" y="19558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ssets &amp;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Clean Energ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of Cleantech Incub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Energy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nhofer Center for Sustain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 Desphand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1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2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5DBF-82AF-4250-8972-CCDB93ED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880920" y="4114800"/>
            <a:ext cx="751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tends to fail as technology development gives way to business development and technology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45720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um of Innov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04920" y="266688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172200" y="26668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600200" y="2666880"/>
            <a:ext cx="14479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3200400" y="2666880"/>
            <a:ext cx="14479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cc2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800600" y="2666880"/>
            <a:ext cx="1219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7924680" y="2209680"/>
            <a:ext cx="1067040" cy="175284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usi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271440" y="1828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7296120" y="6248520"/>
            <a:ext cx="123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987E-82B9-475F-AC51-44CC8C8A96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ヒラギノ角ゴ Pro W3"/>
              </a:rPr>
              <a:t>Clean Tech Strate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1" name="Picture 11" descr="strategy-vs-tactics-chess"/>
          <p:cNvPicPr/>
          <p:nvPr/>
        </p:nvPicPr>
        <p:blipFill>
          <a:blip r:embed="rId1"/>
          <a:stretch/>
        </p:blipFill>
        <p:spPr>
          <a:xfrm>
            <a:off x="0" y="1440000"/>
            <a:ext cx="9144000" cy="541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2"/>
          <p:cNvSpPr/>
          <p:nvPr/>
        </p:nvSpPr>
        <p:spPr>
          <a:xfrm>
            <a:off x="611280" y="13413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INCUB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611280" y="177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.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611280" y="2205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.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11280" y="2637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V. BUSINES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B6E-A4B8-4B92-99EE-C1A24354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rategic Approach to Supporting Entrepreneurs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 industries through incub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into local ED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arget se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programs &amp; incubators with sector fo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into eco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ive economic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businesses, jobs, tax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www.cleantechlosangeles.org/img/projects/index/Picture%201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2736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1414440" y="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 Angeles Cleantech Innovation Cam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Tech Cluster Opportunities: Los Ange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onal As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ubation &amp; Demonstration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 about application to your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BB9C-6938-4E9A-9880-A50DB0843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83840" y="0"/>
            <a:ext cx="73026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Los Angeles, CA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leantech Clus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icture 46" descr="LA OFFERS"/>
          <p:cNvPicPr/>
          <p:nvPr/>
        </p:nvPicPr>
        <p:blipFill>
          <a:blip r:embed="rId1"/>
          <a:stretch/>
        </p:blipFill>
        <p:spPr>
          <a:xfrm>
            <a:off x="0" y="1541520"/>
            <a:ext cx="9144000" cy="5316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6330960" y="254160"/>
            <a:ext cx="20955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n Tech Cluster Partn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37124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Tech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reen Corr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Tech LA 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A Nanotech 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C Stevens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t Propulsio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Tech Student Start-u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5554-C1EA-4BA5-96A9-DF4B5F8240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ovation Campus Progra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38120" y="2064960"/>
            <a:ext cx="735336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 to Local Utility Innovation Campu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Manufacturing &amp; La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 Funded Partnerships with DWP &amp;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Green Workforce Training &amp; Inter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821-4861-47A1-8813-D3298B33A9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E3E5-642D-46D1-9DED-D7FCE2936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61680" y="0"/>
            <a:ext cx="758196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plying the Innovation Model  to Your Reg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ppropri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regional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 new or existing incub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new programs &amp; attract new cl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funding for your Cluste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7716-0BAC-4741-B286-6A0C1071AC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lean Energ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1049400" y="1947960"/>
            <a:ext cx="7010280" cy="4155480"/>
            <a:chOff x="1049400" y="1947960"/>
            <a:chExt cx="7010280" cy="4155480"/>
          </a:xfrm>
        </p:grpSpPr>
        <p:sp>
          <p:nvSpPr>
            <p:cNvPr id="103" name="AutoShape 6"/>
            <p:cNvSpPr/>
            <p:nvPr/>
          </p:nvSpPr>
          <p:spPr>
            <a:xfrm>
              <a:off x="1049400" y="1947960"/>
              <a:ext cx="7010280" cy="41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39284"/>
            <p:cNvSpPr/>
            <p:nvPr/>
          </p:nvSpPr>
          <p:spPr>
            <a:xfrm flipH="1" flipV="1">
              <a:off x="3706200" y="3531600"/>
              <a:ext cx="426600" cy="24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39283"/>
            <p:cNvSpPr/>
            <p:nvPr/>
          </p:nvSpPr>
          <p:spPr>
            <a:xfrm>
              <a:off x="2796840" y="27910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9282"/>
            <p:cNvSpPr/>
            <p:nvPr/>
          </p:nvSpPr>
          <p:spPr>
            <a:xfrm flipH="1">
              <a:off x="3708360" y="4269240"/>
              <a:ext cx="42480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9281"/>
            <p:cNvSpPr/>
            <p:nvPr/>
          </p:nvSpPr>
          <p:spPr>
            <a:xfrm>
              <a:off x="2796840" y="42724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ar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9280"/>
            <p:cNvSpPr/>
            <p:nvPr/>
          </p:nvSpPr>
          <p:spPr>
            <a:xfrm>
              <a:off x="4554360" y="4514760"/>
              <a:ext cx="108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9279"/>
            <p:cNvSpPr/>
            <p:nvPr/>
          </p:nvSpPr>
          <p:spPr>
            <a:xfrm>
              <a:off x="4066920" y="501336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n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39278"/>
            <p:cNvSpPr/>
            <p:nvPr/>
          </p:nvSpPr>
          <p:spPr>
            <a:xfrm>
              <a:off x="4975200" y="4269240"/>
              <a:ext cx="426600" cy="24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39277"/>
            <p:cNvSpPr/>
            <p:nvPr/>
          </p:nvSpPr>
          <p:spPr>
            <a:xfrm>
              <a:off x="5337000" y="42724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39276"/>
            <p:cNvSpPr/>
            <p:nvPr/>
          </p:nvSpPr>
          <p:spPr>
            <a:xfrm flipV="1">
              <a:off x="4975200" y="3530160"/>
              <a:ext cx="426600" cy="24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9275"/>
            <p:cNvSpPr/>
            <p:nvPr/>
          </p:nvSpPr>
          <p:spPr>
            <a:xfrm>
              <a:off x="5337000" y="279288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9274"/>
            <p:cNvSpPr/>
            <p:nvPr/>
          </p:nvSpPr>
          <p:spPr>
            <a:xfrm flipV="1">
              <a:off x="4554360" y="3036240"/>
              <a:ext cx="0" cy="4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9273"/>
            <p:cNvSpPr/>
            <p:nvPr/>
          </p:nvSpPr>
          <p:spPr>
            <a:xfrm>
              <a:off x="4066920" y="2051640"/>
              <a:ext cx="975960" cy="9860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Effici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9272"/>
            <p:cNvSpPr/>
            <p:nvPr/>
          </p:nvSpPr>
          <p:spPr>
            <a:xfrm>
              <a:off x="4066920" y="3533400"/>
              <a:ext cx="975960" cy="986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lean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Clean Energy Regional Innovation Clus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principles and programs described here can be applied to regions throughout the U.S. and internationally – whether urban or r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gions need solutions to environ-mental challenges, whether metropolitan, suburban or agri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4D82-835C-47D1-81BC-6663C9F34D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5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9AF8-E835-4E25-A0B5-8ECEA19E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47600" y="1963440"/>
            <a:ext cx="54356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Robb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Clust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jim@clusterdevelopm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www.clusterdevelopmen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632480" y="5289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48D1-C7EC-41D2-A098-F4A2A851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4452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 involves deliberate application of information, imagination, and initiative to transform new ideas into useful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FD0C-E403-4404-85DA-67CDBFE9C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ean Energy Innov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D070-5448-4939-9834-E0C4A7DA9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0" y="1633680"/>
            <a:ext cx="91440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E6EC-28D2-4620-8E97-B813D1D43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onal Cluster of Innov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9640" y="1922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al center of innovation is a geographic area that supports technology-based economic development through a dynamic mix of researchers, entrepreneurs, investors, and infrastructure, with support from universities and local, state, and federal government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8BEF-7A58-4414-953D-5A9433860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Clus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1523880" y="1905120"/>
            <a:ext cx="7010640" cy="4114800"/>
            <a:chOff x="1523880" y="1905120"/>
            <a:chExt cx="7010640" cy="4114800"/>
          </a:xfrm>
        </p:grpSpPr>
        <p:sp>
          <p:nvSpPr>
            <p:cNvPr id="137" name="AutoShape 6"/>
            <p:cNvSpPr/>
            <p:nvPr/>
          </p:nvSpPr>
          <p:spPr>
            <a:xfrm>
              <a:off x="1523880" y="1905120"/>
              <a:ext cx="70106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4416"/>
            <p:cNvSpPr/>
            <p:nvPr/>
          </p:nvSpPr>
          <p:spPr>
            <a:xfrm flipH="1" flipV="1">
              <a:off x="4181400" y="3473280"/>
              <a:ext cx="426960" cy="24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44415"/>
            <p:cNvSpPr/>
            <p:nvPr/>
          </p:nvSpPr>
          <p:spPr>
            <a:xfrm>
              <a:off x="3271680" y="2739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nves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4402"/>
            <p:cNvSpPr/>
            <p:nvPr/>
          </p:nvSpPr>
          <p:spPr>
            <a:xfrm flipH="1">
              <a:off x="4182840" y="4203720"/>
              <a:ext cx="42516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44401"/>
            <p:cNvSpPr/>
            <p:nvPr/>
          </p:nvSpPr>
          <p:spPr>
            <a:xfrm>
              <a:off x="3271680" y="4206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Univers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4400"/>
            <p:cNvSpPr/>
            <p:nvPr/>
          </p:nvSpPr>
          <p:spPr>
            <a:xfrm>
              <a:off x="5029200" y="4446720"/>
              <a:ext cx="144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44399"/>
            <p:cNvSpPr/>
            <p:nvPr/>
          </p:nvSpPr>
          <p:spPr>
            <a:xfrm>
              <a:off x="4541760" y="494028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ubl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genc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4398"/>
            <p:cNvSpPr/>
            <p:nvPr/>
          </p:nvSpPr>
          <p:spPr>
            <a:xfrm>
              <a:off x="5450040" y="4203720"/>
              <a:ext cx="42696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44397"/>
            <p:cNvSpPr/>
            <p:nvPr/>
          </p:nvSpPr>
          <p:spPr>
            <a:xfrm>
              <a:off x="5811840" y="42069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44396"/>
            <p:cNvSpPr/>
            <p:nvPr/>
          </p:nvSpPr>
          <p:spPr>
            <a:xfrm flipV="1">
              <a:off x="5450040" y="3471840"/>
              <a:ext cx="426960" cy="24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44395"/>
            <p:cNvSpPr/>
            <p:nvPr/>
          </p:nvSpPr>
          <p:spPr>
            <a:xfrm>
              <a:off x="5811840" y="274176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Entrepren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44394"/>
            <p:cNvSpPr/>
            <p:nvPr/>
          </p:nvSpPr>
          <p:spPr>
            <a:xfrm flipV="1">
              <a:off x="5029200" y="29826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44393"/>
            <p:cNvSpPr/>
            <p:nvPr/>
          </p:nvSpPr>
          <p:spPr>
            <a:xfrm>
              <a:off x="4541760" y="2008080"/>
              <a:ext cx="976320" cy="9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cuba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44392"/>
            <p:cNvSpPr/>
            <p:nvPr/>
          </p:nvSpPr>
          <p:spPr>
            <a:xfrm>
              <a:off x="4541760" y="3475080"/>
              <a:ext cx="976320" cy="9763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AutoShape 19"/>
            <p:cNvCxnSpPr>
              <a:stCxn id="139" idx="7"/>
              <a:endCxn id="149" idx="2"/>
            </p:cNvCxnSpPr>
            <p:nvPr/>
          </p:nvCxnSpPr>
          <p:spPr>
            <a:xfrm flipV="1">
              <a:off x="4105440" y="2496600"/>
              <a:ext cx="437040" cy="3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AutoShape 21"/>
            <p:cNvCxnSpPr>
              <a:stCxn id="141" idx="4"/>
            </p:cNvCxnSpPr>
            <p:nvPr/>
          </p:nvCxnSpPr>
          <p:spPr>
            <a:xfrm>
              <a:off x="3760920" y="5183280"/>
              <a:ext cx="822960" cy="49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AutoShape 22"/>
            <p:cNvCxnSpPr>
              <a:stCxn id="143" idx="5"/>
              <a:endCxn id="145" idx="3"/>
            </p:cNvCxnSpPr>
            <p:nvPr/>
          </p:nvCxnSpPr>
          <p:spPr>
            <a:xfrm flipV="1">
              <a:off x="5375160" y="5039640"/>
              <a:ext cx="580320" cy="73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AutoShape 24"/>
            <p:cNvCxnSpPr>
              <a:stCxn id="145" idx="0"/>
              <a:endCxn id="147" idx="4"/>
            </p:cNvCxnSpPr>
            <p:nvPr/>
          </p:nvCxnSpPr>
          <p:spPr>
            <a:xfrm flipV="1">
              <a:off x="6300360" y="3717720"/>
              <a:ext cx="2520" cy="48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AutoShape 27"/>
            <p:cNvCxnSpPr>
              <a:stCxn id="149" idx="6"/>
              <a:endCxn id="147" idx="1"/>
            </p:cNvCxnSpPr>
            <p:nvPr/>
          </p:nvCxnSpPr>
          <p:spPr>
            <a:xfrm>
              <a:off x="5517720" y="2496960"/>
              <a:ext cx="437400" cy="38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AutoShape 38"/>
            <p:cNvCxnSpPr>
              <a:stCxn id="141" idx="0"/>
              <a:endCxn id="139" idx="4"/>
            </p:cNvCxnSpPr>
            <p:nvPr/>
          </p:nvCxnSpPr>
          <p:spPr>
            <a:xfrm flipV="1">
              <a:off x="3760920" y="3715560"/>
              <a:ext cx="2160" cy="49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7" name="Text Box 28"/>
          <p:cNvSpPr/>
          <p:nvPr/>
        </p:nvSpPr>
        <p:spPr>
          <a:xfrm>
            <a:off x="220680" y="1919160"/>
            <a:ext cx="325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6640" y="133200"/>
            <a:ext cx="760068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novation &amp; Clean Energy Fund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focus of Obama Administration econom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A - $200M Innovation Seed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- $40M 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- $600M Innovation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 Federal Clean Tech Budget - $9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: $29B in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on Hub Projec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0M – 150M/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276720" y="6248520"/>
            <a:ext cx="383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Business Cluster Development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9543-472A-461B-91F7-6F4BEFEF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1:03:46Z</dcterms:created>
  <dc:creator>Carol Lauffer</dc:creator>
  <dc:description/>
  <dc:language>en-US</dc:language>
  <cp:lastModifiedBy>James Robbins</cp:lastModifiedBy>
  <dcterms:modified xsi:type="dcterms:W3CDTF">2011-11-01T01:10:44Z</dcterms:modified>
  <cp:revision>202</cp:revision>
  <dc:subject/>
  <dc:title>From Innovation to Incubation: Growing Emerging Sectors in Your Community</dc:title>
</cp:coreProperties>
</file>