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3DA0DC-A016-40D5-8502-E4B4EA63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f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ood local job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tribute to local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ean industrial/manufactur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pture economic benefits of environmental man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1CCADB-FB47-4EEA-B9BD-AC928922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5E9467-576A-4F97-8977-44FDAD02B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you leverage the clean tech opportunities in your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DA866B-69C7-4C3F-96A4-04224B600A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’s the clean tech deal flow in your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n Jose is committed to working on the demand side i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tting goals and adopting policies and standards that drive demand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---  as we saw in the previous slide.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  ALSO support companies that are forming and growing to provide clean technology solutions to help move the needle on our local, state and national goals around sustainability and economic developmen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ity Staff works in 4 key areas to implement this Strategy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Incubation of Clean Tech Companies, Demonstration and Proof of Concept of new technologies, Collaborative Stakeholder Efforts and Business Support. Focus on the 1</a:t>
            </a:r>
            <a:r>
              <a:rPr b="0" lang="fr-BE" sz="1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s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hree toda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4010040" y="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55D19D38-D943-40EF-9E9C-D20773D7E84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4010040" y="894888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1543D70E-EE4D-4E7C-B747-6036594C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F055AB-B7A7-4C12-A02B-B452C81C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851330-5BAE-4AFA-B889-F8AC4DA9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12DC9B-3D92-4DB9-8686-5CC6628B4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7A2281-16CF-4451-9738-F185635F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20A54C-B61A-4529-AC8A-E1F76762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658-EA9D-4B86-8B58-13479D84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101-3E8A-4E4C-9E22-487FC7BE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09E-6EB8-4697-ACEF-C255224F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C4B-B07C-4462-BA0D-B1C66796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C6E4-5748-416E-A7B7-FDC0B7E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9E54-E9A6-40EB-B5E8-2276F02D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F77B-340A-4983-A37B-6D6966A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203-A8BA-4F85-A544-3E0A8DC7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8D24-22D9-4CE3-A3AB-E5BDB140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6640" y="133200"/>
            <a:ext cx="7600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750D-2B29-4621-A7FA-9B961E1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EB3E-298C-449E-B0C3-E17629D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D7C-7628-438A-A3B4-4C8EB905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F95-3BD0-4FFE-A680-8343593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743-C1CE-48C9-BAAD-8EBE7AF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780-206F-4870-95C9-FDA36228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379-A9C9-40C0-AD3A-AA3037BB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AF4B-0D63-483E-B7FE-D878090E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ED2-0554-4335-9446-A01C80A9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7AE-4A36-4633-BB5D-07915B1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396-7060-4C07-9721-498E934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6640" y="133200"/>
            <a:ext cx="7600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C19-ED30-43C1-A961-26F0D6A3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2C1-5768-40D6-8B81-23CF345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5CC-D2BE-45AD-BE65-F045F64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7D6-25A0-47F5-A2DB-2507E7D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BCD_red copy"/>
          <p:cNvPicPr/>
          <p:nvPr/>
        </p:nvPicPr>
        <p:blipFill>
          <a:blip r:embed="rId2"/>
          <a:stretch/>
        </p:blipFill>
        <p:spPr>
          <a:xfrm>
            <a:off x="0" y="0"/>
            <a:ext cx="1376280" cy="137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961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E47-32FE-43CE-8EAB-A1A74013B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1" descr="black_line"/>
          <p:cNvPicPr/>
          <p:nvPr/>
        </p:nvPicPr>
        <p:blipFill>
          <a:blip r:embed="rId3"/>
          <a:stretch/>
        </p:blipFill>
        <p:spPr>
          <a:xfrm>
            <a:off x="0" y="1360440"/>
            <a:ext cx="914400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BCD_red copy"/>
          <p:cNvPicPr/>
          <p:nvPr/>
        </p:nvPicPr>
        <p:blipFill>
          <a:blip r:embed="rId2"/>
          <a:stretch/>
        </p:blipFill>
        <p:spPr>
          <a:xfrm>
            <a:off x="0" y="1352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lack_line_title"/>
          <p:cNvPicPr/>
          <p:nvPr/>
        </p:nvPicPr>
        <p:blipFill>
          <a:blip r:embed="rId3"/>
          <a:stretch/>
        </p:blipFill>
        <p:spPr>
          <a:xfrm>
            <a:off x="0" y="3084480"/>
            <a:ext cx="9144000" cy="30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495920" y="6248520"/>
            <a:ext cx="110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347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9D57-D09B-4AB3-818B-E35125DF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leantechlosangeles.org/projects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jim@clusterdevelopment.com" TargetMode="External"/><Relationship Id="rId2" Type="http://schemas.openxmlformats.org/officeDocument/2006/relationships/hyperlink" Target="http://www.clusterdevelopmen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E393-232E-44C3-85A6-BD938216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0" y="1650960"/>
            <a:ext cx="914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portunity In New Engla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6 Green Challenge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$2M/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1, the New England Clean Energy Foundation received a $1.25M  i6 Green Challenge Gra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 and leverage existing resources and program online through forums, events an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funding and services to help commercialize cleantech innovations across the states involved, including demonstration sites, incubation services, technical assistance &amp;access to angel/VC inves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veloping Your Clean Energy Regional Innovation Clus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6193-6A30-49E9-801E-08A4AC2F8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0" y="16686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2"/>
          <p:cNvSpPr/>
          <p:nvPr/>
        </p:nvSpPr>
        <p:spPr>
          <a:xfrm>
            <a:off x="3378240" y="3165480"/>
            <a:ext cx="3268800" cy="3201840"/>
          </a:xfrm>
          <a:prstGeom prst="ellipse">
            <a:avLst/>
          </a:prstGeom>
          <a:solidFill>
            <a:srgbClr val="ffff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752480" y="3178080"/>
            <a:ext cx="3237120" cy="3205080"/>
          </a:xfrm>
          <a:prstGeom prst="ellipse">
            <a:avLst/>
          </a:prstGeom>
          <a:solidFill>
            <a:srgbClr val="99ccff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2670120" y="1871640"/>
            <a:ext cx="3002040" cy="3046320"/>
          </a:xfrm>
          <a:prstGeom prst="ellipse">
            <a:avLst/>
          </a:prstGeom>
          <a:solidFill>
            <a:srgbClr val="99cc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763800" y="352584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11360" y="2573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897200" y="477504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156280" y="488952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487680" y="37591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Energ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56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7e3a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4d7e3a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pportunity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obs In Clean Tech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4C1B-9E82-49D3-BCCD-A3837F3509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14400" y="1608120"/>
            <a:ext cx="9129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Your Clean Energy Cluste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often, plans at regional levels fail to translate into local start-ups &amp; jo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New England can operate as a regional powerhouse, Western MA needs to develop its own cleantech strategy and identity in order to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you define your local Clus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A847-13E5-496E-B3E2-E9D14304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CD Copyrigh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E5B7-1D6B-4D2B-844C-160E526E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uster Best Practi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t with 6 Building Blo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3880" y="1905120"/>
          <a:ext cx="70264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264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6232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388620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410080" y="4419720"/>
            <a:ext cx="1214640" cy="121428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27672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4114800" y="2057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4800600" y="3200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39200" y="2514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202200" y="37339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879440" y="36576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52480" y="48769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preneu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182920" y="48769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811680" y="5029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&amp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Commun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7464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right fit for your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with regional innovation or local economic develop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loc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strengthen the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 fund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Energy Incubator can be a catalyst – can add sector to existing incub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S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5081-747D-4BF0-9E5A-1ADF4C299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9067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5737-8475-48F6-940B-42AC3D7EF5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73120" y="2006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tec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academic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– faculty &amp;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,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989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/Establish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of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artners for commer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start-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Associations &amp;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&amp; test b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6480" y="1294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veloping a Clean Energy Regional Innovation Clus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03200" y="4055760"/>
            <a:ext cx="64771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James Robb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ean Energy Connections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vember 2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03200" y="1955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ssets &amp;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Clean Energ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Cleantech Incub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Energy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nhofer Center for Sustain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 Desphand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1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24D-CEEC-4723-9EF1-782021BF8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880920" y="4114800"/>
            <a:ext cx="751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tends to fail as technology development gives way to business development and technology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45720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um of Inno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04920" y="26668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172200" y="26668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600200" y="2666880"/>
            <a:ext cx="14479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3200400" y="2666880"/>
            <a:ext cx="14479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cc2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800600" y="2666880"/>
            <a:ext cx="1219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7924680" y="2209680"/>
            <a:ext cx="1067040" cy="17528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usi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271440" y="18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72961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D7F8-51DC-405D-8D55-02AFD980ED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ヒラギノ角ゴ Pro W3"/>
              </a:rPr>
              <a:t>Clean Tech Strate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1" name="Picture 11" descr="strategy-vs-tactics-chess"/>
          <p:cNvPicPr/>
          <p:nvPr/>
        </p:nvPicPr>
        <p:blipFill>
          <a:blip r:embed="rId1"/>
          <a:stretch/>
        </p:blipFill>
        <p:spPr>
          <a:xfrm>
            <a:off x="0" y="1440000"/>
            <a:ext cx="9144000" cy="541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>
            <a:off x="611280" y="1341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INC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611280" y="177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.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611280" y="220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.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11280" y="2637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. BUSIN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959B-D998-4E33-AB48-23F270F4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ategic Approach to Supporting Entrepreneur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industries through incub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into local ED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arget s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programs &amp; incubators with sector fo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into eco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ve economic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businesses, jobs, tax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www.cleantechlosangeles.org/img/projects/index/Picture%201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2736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1414440" y="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 Angeles Cleantech Innovation Ca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Tech Cluster Opportunities: Los Ange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onal As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ubation &amp; Demonstration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about application to your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0813-B827-4E1C-B81D-35E3C3B9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83840" y="0"/>
            <a:ext cx="73026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os Angeles, CA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leantech Clus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46" descr="LA OFFERS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5316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6330960" y="254160"/>
            <a:ext cx="2095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n Tech Cluster Partn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3712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Tech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reen Cor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Tech LA 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A Nanotech 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C Steven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t Propulsio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Tech Student Start-u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C963-3BF1-41FD-9789-7C10178F59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ovation Campus Progra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8120" y="2064960"/>
            <a:ext cx="735336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to Local Utility Innovation Campu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Manufacturing &amp; La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 Funded Partnerships with DWP &amp;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Green Workforce Training &amp; Inter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D37-0584-45F6-81D5-90DAC7D5A9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68F-7E10-44FE-8487-2BF0FC10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61680" y="0"/>
            <a:ext cx="758196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lying the Innovation Model  to Your Reg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ppropri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regional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new or existing incub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new programs &amp; attract new cl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funding for your Cluste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3ECB-D153-4A70-A7AA-F3A892C1C5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lean Energ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1049400" y="1947960"/>
            <a:ext cx="7010280" cy="4155480"/>
            <a:chOff x="1049400" y="1947960"/>
            <a:chExt cx="7010280" cy="4155480"/>
          </a:xfrm>
        </p:grpSpPr>
        <p:sp>
          <p:nvSpPr>
            <p:cNvPr id="103" name="AutoShape 6"/>
            <p:cNvSpPr/>
            <p:nvPr/>
          </p:nvSpPr>
          <p:spPr>
            <a:xfrm>
              <a:off x="1049400" y="1947960"/>
              <a:ext cx="7010280" cy="41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39284"/>
            <p:cNvSpPr/>
            <p:nvPr/>
          </p:nvSpPr>
          <p:spPr>
            <a:xfrm flipH="1" flipV="1">
              <a:off x="3706200" y="3531600"/>
              <a:ext cx="426600" cy="24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39283"/>
            <p:cNvSpPr/>
            <p:nvPr/>
          </p:nvSpPr>
          <p:spPr>
            <a:xfrm>
              <a:off x="2796840" y="27910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9282"/>
            <p:cNvSpPr/>
            <p:nvPr/>
          </p:nvSpPr>
          <p:spPr>
            <a:xfrm flipH="1">
              <a:off x="3708360" y="4269240"/>
              <a:ext cx="42480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9281"/>
            <p:cNvSpPr/>
            <p:nvPr/>
          </p:nvSpPr>
          <p:spPr>
            <a:xfrm>
              <a:off x="2796840" y="42724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ar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9280"/>
            <p:cNvSpPr/>
            <p:nvPr/>
          </p:nvSpPr>
          <p:spPr>
            <a:xfrm>
              <a:off x="4554360" y="4514760"/>
              <a:ext cx="108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9279"/>
            <p:cNvSpPr/>
            <p:nvPr/>
          </p:nvSpPr>
          <p:spPr>
            <a:xfrm>
              <a:off x="4066920" y="501336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9278"/>
            <p:cNvSpPr/>
            <p:nvPr/>
          </p:nvSpPr>
          <p:spPr>
            <a:xfrm>
              <a:off x="4975200" y="4269240"/>
              <a:ext cx="426600" cy="24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9277"/>
            <p:cNvSpPr/>
            <p:nvPr/>
          </p:nvSpPr>
          <p:spPr>
            <a:xfrm>
              <a:off x="5337000" y="42724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39276"/>
            <p:cNvSpPr/>
            <p:nvPr/>
          </p:nvSpPr>
          <p:spPr>
            <a:xfrm flipV="1">
              <a:off x="4975200" y="3530160"/>
              <a:ext cx="426600" cy="24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9275"/>
            <p:cNvSpPr/>
            <p:nvPr/>
          </p:nvSpPr>
          <p:spPr>
            <a:xfrm>
              <a:off x="5337000" y="27928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9274"/>
            <p:cNvSpPr/>
            <p:nvPr/>
          </p:nvSpPr>
          <p:spPr>
            <a:xfrm flipV="1">
              <a:off x="4554360" y="3036240"/>
              <a:ext cx="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9273"/>
            <p:cNvSpPr/>
            <p:nvPr/>
          </p:nvSpPr>
          <p:spPr>
            <a:xfrm>
              <a:off x="4066920" y="205164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Effici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9272"/>
            <p:cNvSpPr/>
            <p:nvPr/>
          </p:nvSpPr>
          <p:spPr>
            <a:xfrm>
              <a:off x="4066920" y="3533400"/>
              <a:ext cx="975960" cy="9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lean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Clean Energy Regional Innovation Clus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principles and programs described here can be applied to regions throughout the U.S. and internationally – whether urban or r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gions need solutions to environ-mental challenges, whether metropolitan, suburban or agri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D0CE-B43F-419F-826C-E827962909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B15-5820-4E80-B6F4-13D125005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7600" y="1963440"/>
            <a:ext cx="54356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Rob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Clust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jim@clusterdevelopm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clusterdevelopm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63248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B49-BE3F-46E2-95F4-36127F31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4452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involves deliberate application of information, imagination, and initiative to transform new ideas into useful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78BD-C441-40FB-AA9B-4329006D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856-3785-462A-8DD6-EA72C354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0" y="1633680"/>
            <a:ext cx="9144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4B8-C6A6-4090-A105-731CB827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onal Cluster of Innov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9640" y="1922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al center of innovation is a geographic area that supports technology-based economic development through a dynamic mix of researchers, entrepreneurs, investors, and infrastructure, with support from universities and local, state, and federal government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89B8-48C0-4F1C-9199-4A3CD4C7E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Clus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1523880" y="1905120"/>
            <a:ext cx="7010640" cy="4114800"/>
            <a:chOff x="1523880" y="1905120"/>
            <a:chExt cx="7010640" cy="4114800"/>
          </a:xfrm>
        </p:grpSpPr>
        <p:sp>
          <p:nvSpPr>
            <p:cNvPr id="137" name="AutoShape 6"/>
            <p:cNvSpPr/>
            <p:nvPr/>
          </p:nvSpPr>
          <p:spPr>
            <a:xfrm>
              <a:off x="1523880" y="1905120"/>
              <a:ext cx="70106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4416"/>
            <p:cNvSpPr/>
            <p:nvPr/>
          </p:nvSpPr>
          <p:spPr>
            <a:xfrm flipH="1" flipV="1">
              <a:off x="4181400" y="3473280"/>
              <a:ext cx="426960" cy="24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44415"/>
            <p:cNvSpPr/>
            <p:nvPr/>
          </p:nvSpPr>
          <p:spPr>
            <a:xfrm>
              <a:off x="3271680" y="2739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nves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4402"/>
            <p:cNvSpPr/>
            <p:nvPr/>
          </p:nvSpPr>
          <p:spPr>
            <a:xfrm flipH="1">
              <a:off x="4182840" y="4203720"/>
              <a:ext cx="42516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44401"/>
            <p:cNvSpPr/>
            <p:nvPr/>
          </p:nvSpPr>
          <p:spPr>
            <a:xfrm>
              <a:off x="3271680" y="4206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Univers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4400"/>
            <p:cNvSpPr/>
            <p:nvPr/>
          </p:nvSpPr>
          <p:spPr>
            <a:xfrm>
              <a:off x="5029200" y="4446720"/>
              <a:ext cx="144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44399"/>
            <p:cNvSpPr/>
            <p:nvPr/>
          </p:nvSpPr>
          <p:spPr>
            <a:xfrm>
              <a:off x="4541760" y="494028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ubl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genc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4398"/>
            <p:cNvSpPr/>
            <p:nvPr/>
          </p:nvSpPr>
          <p:spPr>
            <a:xfrm>
              <a:off x="5450040" y="4203720"/>
              <a:ext cx="42696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44397"/>
            <p:cNvSpPr/>
            <p:nvPr/>
          </p:nvSpPr>
          <p:spPr>
            <a:xfrm>
              <a:off x="5811840" y="4206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44396"/>
            <p:cNvSpPr/>
            <p:nvPr/>
          </p:nvSpPr>
          <p:spPr>
            <a:xfrm flipV="1">
              <a:off x="5450040" y="3471840"/>
              <a:ext cx="426960" cy="24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44395"/>
            <p:cNvSpPr/>
            <p:nvPr/>
          </p:nvSpPr>
          <p:spPr>
            <a:xfrm>
              <a:off x="5811840" y="27417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Entrepren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44394"/>
            <p:cNvSpPr/>
            <p:nvPr/>
          </p:nvSpPr>
          <p:spPr>
            <a:xfrm flipV="1">
              <a:off x="5029200" y="29826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44393"/>
            <p:cNvSpPr/>
            <p:nvPr/>
          </p:nvSpPr>
          <p:spPr>
            <a:xfrm>
              <a:off x="4541760" y="200808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cub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44392"/>
            <p:cNvSpPr/>
            <p:nvPr/>
          </p:nvSpPr>
          <p:spPr>
            <a:xfrm>
              <a:off x="4541760" y="3475080"/>
              <a:ext cx="976320" cy="9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19"/>
            <p:cNvCxnSpPr>
              <a:stCxn id="139" idx="7"/>
              <a:endCxn id="149" idx="2"/>
            </p:cNvCxnSpPr>
            <p:nvPr/>
          </p:nvCxnSpPr>
          <p:spPr>
            <a:xfrm flipV="1">
              <a:off x="4105440" y="2496600"/>
              <a:ext cx="43704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AutoShape 21"/>
            <p:cNvCxnSpPr>
              <a:stCxn id="141" idx="4"/>
            </p:cNvCxnSpPr>
            <p:nvPr/>
          </p:nvCxnSpPr>
          <p:spPr>
            <a:xfrm>
              <a:off x="3760920" y="5183280"/>
              <a:ext cx="822960" cy="49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AutoShape 22"/>
            <p:cNvCxnSpPr>
              <a:stCxn id="143" idx="5"/>
              <a:endCxn id="145" idx="3"/>
            </p:cNvCxnSpPr>
            <p:nvPr/>
          </p:nvCxnSpPr>
          <p:spPr>
            <a:xfrm flipV="1">
              <a:off x="5375160" y="5039640"/>
              <a:ext cx="580320" cy="73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AutoShape 24"/>
            <p:cNvCxnSpPr>
              <a:stCxn id="145" idx="0"/>
              <a:endCxn id="147" idx="4"/>
            </p:cNvCxnSpPr>
            <p:nvPr/>
          </p:nvCxnSpPr>
          <p:spPr>
            <a:xfrm flipV="1">
              <a:off x="6300360" y="3717720"/>
              <a:ext cx="2520" cy="48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AutoShape 27"/>
            <p:cNvCxnSpPr>
              <a:stCxn id="149" idx="6"/>
              <a:endCxn id="147" idx="1"/>
            </p:cNvCxnSpPr>
            <p:nvPr/>
          </p:nvCxnSpPr>
          <p:spPr>
            <a:xfrm>
              <a:off x="5517720" y="2496960"/>
              <a:ext cx="437400" cy="38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AutoShape 38"/>
            <p:cNvCxnSpPr>
              <a:stCxn id="141" idx="0"/>
              <a:endCxn id="139" idx="4"/>
            </p:cNvCxnSpPr>
            <p:nvPr/>
          </p:nvCxnSpPr>
          <p:spPr>
            <a:xfrm flipV="1">
              <a:off x="3760920" y="3715560"/>
              <a:ext cx="2160" cy="49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7" name="Text Box 28"/>
          <p:cNvSpPr/>
          <p:nvPr/>
        </p:nvSpPr>
        <p:spPr>
          <a:xfrm>
            <a:off x="220680" y="1919160"/>
            <a:ext cx="325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&amp; Clean Energy Fund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focus of Obama Administration econom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 - $200M Innovation Seed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- $40M 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- $600M Innovation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 Federal Clean Tech Budget - $9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: $29B in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Hub Proje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M – 150M/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3C00-9D6E-4BB2-AF6D-28A6E1CF4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1:03:46Z</dcterms:created>
  <dc:creator>Carol Lauffer</dc:creator>
  <dc:description/>
  <dc:language>en-US</dc:language>
  <cp:lastModifiedBy>James Robbins</cp:lastModifiedBy>
  <dcterms:modified xsi:type="dcterms:W3CDTF">2011-11-01T01:10:44Z</dcterms:modified>
  <cp:revision>202</cp:revision>
  <dc:subject/>
  <dc:title>From Innovation to Incubation: Growing Emerging Sectors in Your Community</dc:title>
</cp:coreProperties>
</file>