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DD38AF7-0DB9-4BD9-AACE-F5C3733BC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f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ood local job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tribute to local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lean industrial/manufacturin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pture economic benefits of environmental man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AE06AC-F7EF-4BA7-821F-AD93D72A4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DDB2C8-3A92-4FA3-B2E3-1D1AF17EC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you leverage the clean tech opportunities in your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45F053-6944-489F-A790-65108F276C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’s the clean tech deal flow in your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n Jose is committed to working on the demand side i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tting goals and adopting policies and standards that drive demand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---  as we saw in the previous slide.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  ALSO support companies that are forming and growing to provide clean technology solutions to help move the needle on our local, state and national goals around sustainability and economic developmen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ity Staff works in 4 key areas to implement this Strategy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Incubation of Clean Tech Companies, Demonstration and Proof of Concept of new technologies, Collaborative Stakeholder Efforts and Business Support. Focus on the 1</a:t>
            </a:r>
            <a:r>
              <a:rPr b="0" lang="fr-BE" sz="1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s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hree toda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4010040" y="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99FB0C96-5F19-416B-A95F-E72AE2D2A34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4010040" y="894888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E2CFFFC2-ED2C-44B9-8EBB-F1FF11F3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690DC7-7674-4199-9364-35254DAF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EFD54A-5E25-4351-A4B7-4C05B80BB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2352985-464E-4710-9CFD-2CD6977F9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FCB91DB-9A30-4730-BEDA-8E721D13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65E122-5A06-49B1-BD91-CE36A1F5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F0B-BA2A-4E29-86AE-251107DE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A63-0F60-4000-859C-F77A2381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011-82BC-4583-ACE3-95F3AA34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E30-7325-40E0-8DE0-ADA53C3C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09B2-78D1-4761-9912-3D08B8D5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75B5-DEF0-45C5-B913-2427D1F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5D94-5B61-436F-85A5-8E474CE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92D3-C1EA-46B5-BBFD-914FEEA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3F5E-89D2-4C11-9D80-BAC9A776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66640" y="133200"/>
            <a:ext cx="7600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D379-BB94-4462-A3EF-49AEC55C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0A86-33C3-4EC3-A4B0-A73FE63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F73-0B9B-404F-9C9D-D04F158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1E27-E94F-4E07-8937-96067C7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F5D7-3B64-4963-B550-5DD0816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99E0-5C52-4E46-98A3-21036E1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F970-FCA0-418D-B89F-B8D587B8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34CF-0614-4258-81CA-22EE12F5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E03-3C63-4F0B-A9A2-301A762E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036-E67D-46E2-9D75-DEEB381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CC7-F556-438A-883B-BF0A820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66640" y="133200"/>
            <a:ext cx="7600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EC6-29C0-423E-8A19-85210FD7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C1B-0C61-45C1-91C3-28C4671F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66B-1498-42E9-997B-DD40C675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5F2-8D18-4D46-8390-8E92CEF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BCD_red copy"/>
          <p:cNvPicPr/>
          <p:nvPr/>
        </p:nvPicPr>
        <p:blipFill>
          <a:blip r:embed="rId2"/>
          <a:stretch/>
        </p:blipFill>
        <p:spPr>
          <a:xfrm>
            <a:off x="0" y="0"/>
            <a:ext cx="1376280" cy="137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961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452-BCC0-40F8-8E2D-C17C48908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1" descr="black_line"/>
          <p:cNvPicPr/>
          <p:nvPr/>
        </p:nvPicPr>
        <p:blipFill>
          <a:blip r:embed="rId3"/>
          <a:stretch/>
        </p:blipFill>
        <p:spPr>
          <a:xfrm>
            <a:off x="0" y="1360440"/>
            <a:ext cx="914400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BCD_red copy"/>
          <p:cNvPicPr/>
          <p:nvPr/>
        </p:nvPicPr>
        <p:blipFill>
          <a:blip r:embed="rId2"/>
          <a:stretch/>
        </p:blipFill>
        <p:spPr>
          <a:xfrm>
            <a:off x="0" y="1352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lack_line_title"/>
          <p:cNvPicPr/>
          <p:nvPr/>
        </p:nvPicPr>
        <p:blipFill>
          <a:blip r:embed="rId3"/>
          <a:stretch/>
        </p:blipFill>
        <p:spPr>
          <a:xfrm>
            <a:off x="0" y="3084480"/>
            <a:ext cx="9144000" cy="30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495920" y="6248520"/>
            <a:ext cx="110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347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245-0B90-4F1C-A55D-250B902A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leantechlosangeles.org/projects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jim@clusterdevelopment.com" TargetMode="External"/><Relationship Id="rId2" Type="http://schemas.openxmlformats.org/officeDocument/2006/relationships/hyperlink" Target="http://www.clusterdevelopmen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D035-0D60-4A0B-8667-95B4793E8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0" y="1650960"/>
            <a:ext cx="914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portunity In New Engla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6 Green Challenge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$2M/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1, the New England Clean Energy Foundation received a $1.25M  i6 Green Challenge Gra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 and leverage existing resources and program online through forums, events an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funding and services to help commercialize cleantech innovations across the states involved, including demonstration sites, incubation services, technical assistance &amp;access to angel/VC inves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veloping Your Clean Energy Regional Innovation Clus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BAD4-DB2F-4F0E-AE0C-82A8B350B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0" y="16686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2"/>
          <p:cNvSpPr/>
          <p:nvPr/>
        </p:nvSpPr>
        <p:spPr>
          <a:xfrm>
            <a:off x="3378240" y="3165480"/>
            <a:ext cx="3268800" cy="3201840"/>
          </a:xfrm>
          <a:prstGeom prst="ellipse">
            <a:avLst/>
          </a:prstGeom>
          <a:solidFill>
            <a:srgbClr val="ffff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752480" y="3178080"/>
            <a:ext cx="3237120" cy="3205080"/>
          </a:xfrm>
          <a:prstGeom prst="ellipse">
            <a:avLst/>
          </a:prstGeom>
          <a:solidFill>
            <a:srgbClr val="99ccff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2670120" y="1871640"/>
            <a:ext cx="3002040" cy="3046320"/>
          </a:xfrm>
          <a:prstGeom prst="ellipse">
            <a:avLst/>
          </a:prstGeom>
          <a:solidFill>
            <a:srgbClr val="99cc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763800" y="352584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411360" y="2573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897200" y="477504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156280" y="488952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487680" y="37591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 Energy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56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7e3a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4d7e3a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pportunity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obs In Clean Tech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7C64-323F-48FA-BBFC-3103C197D8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14400" y="1608120"/>
            <a:ext cx="9129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Your Clean Energy Cluste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 often, plans at regional levels fail to translate into local start-ups &amp; jo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New England can operate as a regional powerhouse, Western MA needs to develop its own cleantech strategy and identity in order to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you define your local Clus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0C5B-E3DF-4190-8D68-8BB31A13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CD Copyrigh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0156-1C25-4F59-9323-4C0099A5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uster Best Practic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t with 6 Building Blo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3880" y="1905120"/>
          <a:ext cx="70264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264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6232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388620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410080" y="4419720"/>
            <a:ext cx="1214640" cy="121428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276720" y="3276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4114800" y="2057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4800600" y="3200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39200" y="2514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202200" y="37339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879440" y="36576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52480" y="48769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preneu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182920" y="48769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811680" y="5029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&amp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Commun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7464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right fit for your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 with regional innovation or local economic develop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loc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strengthen the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 fund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Energy Incubator can be a catalyst – can add sector to existing incub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S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E877-7AC9-4B5C-A127-4A4BA900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0" y="1557360"/>
            <a:ext cx="9067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01D-4CF5-4A12-98AA-F3949524AE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73120" y="2006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tech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academic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– faculty &amp;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,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989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/Establish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of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partners for commer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start-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Associations &amp;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&amp; test b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6480" y="1294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veloping a Clean Energy Regional Innovation Clus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03200" y="4055760"/>
            <a:ext cx="64771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James Robb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ean Energy Connections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vember 2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03200" y="19558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ssets &amp;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Clean Energ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of Cleantech Incub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Energy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nhofer Center for Sustain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 Desphand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1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B048-7A14-49DC-9614-B924429E3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880920" y="4114800"/>
            <a:ext cx="751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tends to fail as technology development gives way to business development and technology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45720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um of Innov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04920" y="26668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172200" y="26668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600200" y="2666880"/>
            <a:ext cx="14479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3200400" y="2666880"/>
            <a:ext cx="14479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cc2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800600" y="2666880"/>
            <a:ext cx="1219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7924680" y="2209680"/>
            <a:ext cx="1067040" cy="175284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usi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271440" y="1828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72961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DFC1-2C98-4FA3-BE60-913514634A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ヒラギノ角ゴ Pro W3"/>
              </a:rPr>
              <a:t>Clean Tech Strate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1" name="Picture 11" descr="strategy-vs-tactics-chess"/>
          <p:cNvPicPr/>
          <p:nvPr/>
        </p:nvPicPr>
        <p:blipFill>
          <a:blip r:embed="rId1"/>
          <a:stretch/>
        </p:blipFill>
        <p:spPr>
          <a:xfrm>
            <a:off x="0" y="1440000"/>
            <a:ext cx="9144000" cy="541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2"/>
          <p:cNvSpPr/>
          <p:nvPr/>
        </p:nvSpPr>
        <p:spPr>
          <a:xfrm>
            <a:off x="611280" y="1341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INC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611280" y="177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.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611280" y="220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.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11280" y="2637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V. BUSINES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7C76-E188-4A7A-A6CF-D6069E4F6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ategic Approach to Supporting Entrepreneurs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industries through incub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into local ED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arget se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programs &amp; incubators with sector fo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into eco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ve economic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businesses, jobs, tax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www.cleantechlosangeles.org/img/projects/index/Picture%201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2736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1414440" y="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 Angeles Cleantech Innovation Ca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Tech Cluster Opportunities: Los Ange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onal As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ubation &amp; Demonstration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 about application to your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15AC-0972-469B-BAE1-FA84A8399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83840" y="0"/>
            <a:ext cx="73026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os Angeles, CA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leantech Clus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icture 46" descr="LA OFFERS"/>
          <p:cNvPicPr/>
          <p:nvPr/>
        </p:nvPicPr>
        <p:blipFill>
          <a:blip r:embed="rId1"/>
          <a:stretch/>
        </p:blipFill>
        <p:spPr>
          <a:xfrm>
            <a:off x="0" y="1541520"/>
            <a:ext cx="9144000" cy="5316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6330960" y="254160"/>
            <a:ext cx="20955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n Tech Cluster Partn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3712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Tech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reen Cor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Tech LA 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A Nanotech 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C Steven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t Propulsio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Tech Student Start-u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9215-3FD2-4CFC-A6EA-54693C1B2A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ovation Campus Progra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8120" y="2064960"/>
            <a:ext cx="735336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to Local Utility Innovation Campu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Manufacturing &amp; La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 Funded Partnerships with DWP &amp;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Green Workforce Training &amp; Inter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0E24-42C3-4A4A-862B-584713E7A7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E808-9F4F-4648-B52A-9F1D252F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61680" y="0"/>
            <a:ext cx="758196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lying the Innovation Model  to Your Reg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ppropri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regional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new or existing incub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new programs &amp; attract new cl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funding for your Cluste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BD51-0C93-4F93-B14D-F17173F3E9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lean Energ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1049400" y="1947960"/>
            <a:ext cx="7010280" cy="4155480"/>
            <a:chOff x="1049400" y="1947960"/>
            <a:chExt cx="7010280" cy="4155480"/>
          </a:xfrm>
        </p:grpSpPr>
        <p:sp>
          <p:nvSpPr>
            <p:cNvPr id="103" name="AutoShape 6"/>
            <p:cNvSpPr/>
            <p:nvPr/>
          </p:nvSpPr>
          <p:spPr>
            <a:xfrm>
              <a:off x="1049400" y="1947960"/>
              <a:ext cx="7010280" cy="41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39284"/>
            <p:cNvSpPr/>
            <p:nvPr/>
          </p:nvSpPr>
          <p:spPr>
            <a:xfrm flipH="1" flipV="1">
              <a:off x="3706200" y="3531600"/>
              <a:ext cx="426600" cy="24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39283"/>
            <p:cNvSpPr/>
            <p:nvPr/>
          </p:nvSpPr>
          <p:spPr>
            <a:xfrm>
              <a:off x="2796840" y="27910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9282"/>
            <p:cNvSpPr/>
            <p:nvPr/>
          </p:nvSpPr>
          <p:spPr>
            <a:xfrm flipH="1">
              <a:off x="3708360" y="4269240"/>
              <a:ext cx="42480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9281"/>
            <p:cNvSpPr/>
            <p:nvPr/>
          </p:nvSpPr>
          <p:spPr>
            <a:xfrm>
              <a:off x="2796840" y="42724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ar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9280"/>
            <p:cNvSpPr/>
            <p:nvPr/>
          </p:nvSpPr>
          <p:spPr>
            <a:xfrm>
              <a:off x="4554360" y="4514760"/>
              <a:ext cx="108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9279"/>
            <p:cNvSpPr/>
            <p:nvPr/>
          </p:nvSpPr>
          <p:spPr>
            <a:xfrm>
              <a:off x="4066920" y="501336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39278"/>
            <p:cNvSpPr/>
            <p:nvPr/>
          </p:nvSpPr>
          <p:spPr>
            <a:xfrm>
              <a:off x="4975200" y="4269240"/>
              <a:ext cx="426600" cy="24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9277"/>
            <p:cNvSpPr/>
            <p:nvPr/>
          </p:nvSpPr>
          <p:spPr>
            <a:xfrm>
              <a:off x="5337000" y="42724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39276"/>
            <p:cNvSpPr/>
            <p:nvPr/>
          </p:nvSpPr>
          <p:spPr>
            <a:xfrm flipV="1">
              <a:off x="4975200" y="3530160"/>
              <a:ext cx="426600" cy="24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9275"/>
            <p:cNvSpPr/>
            <p:nvPr/>
          </p:nvSpPr>
          <p:spPr>
            <a:xfrm>
              <a:off x="5337000" y="27928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9274"/>
            <p:cNvSpPr/>
            <p:nvPr/>
          </p:nvSpPr>
          <p:spPr>
            <a:xfrm flipV="1">
              <a:off x="4554360" y="3036240"/>
              <a:ext cx="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9273"/>
            <p:cNvSpPr/>
            <p:nvPr/>
          </p:nvSpPr>
          <p:spPr>
            <a:xfrm>
              <a:off x="4066920" y="205164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Effici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9272"/>
            <p:cNvSpPr/>
            <p:nvPr/>
          </p:nvSpPr>
          <p:spPr>
            <a:xfrm>
              <a:off x="4066920" y="3533400"/>
              <a:ext cx="975960" cy="9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lean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Clean Energy Regional Innovation Clus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principles and programs described here can be applied to regions throughout the U.S. and internationally – whether urban or r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gions need solutions to environ-mental challenges, whether metropolitan, suburban or agri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880-2660-446C-9FC6-67004E40CD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D73C-BF0B-4755-8545-75128FCC6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7600" y="1963440"/>
            <a:ext cx="54356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Rob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Clust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jim@clusterdevelopm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www.clusterdevelopm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63248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F4E5-DA9F-4A73-8241-CE62C70C2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4452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involves deliberate application of information, imagination, and initiative to transform new ideas into useful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A659-7D68-42E6-97BF-A987AE7D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FA2D-CEB9-4B7E-9497-DCD73BE6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0" y="1633680"/>
            <a:ext cx="9144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3559-9622-4D66-8873-D6DD9060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onal Cluster of Innov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9640" y="1922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al center of innovation is a geographic area that supports technology-based economic development through a dynamic mix of researchers, entrepreneurs, investors, and infrastructure, with support from universities and local, state, and federal government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569-9A1C-4181-BE13-72FB2539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Clus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1523880" y="1905120"/>
            <a:ext cx="7010640" cy="4114800"/>
            <a:chOff x="1523880" y="1905120"/>
            <a:chExt cx="7010640" cy="4114800"/>
          </a:xfrm>
        </p:grpSpPr>
        <p:sp>
          <p:nvSpPr>
            <p:cNvPr id="137" name="AutoShape 6"/>
            <p:cNvSpPr/>
            <p:nvPr/>
          </p:nvSpPr>
          <p:spPr>
            <a:xfrm>
              <a:off x="1523880" y="1905120"/>
              <a:ext cx="70106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4416"/>
            <p:cNvSpPr/>
            <p:nvPr/>
          </p:nvSpPr>
          <p:spPr>
            <a:xfrm flipH="1" flipV="1">
              <a:off x="4181400" y="3473280"/>
              <a:ext cx="426960" cy="24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44415"/>
            <p:cNvSpPr/>
            <p:nvPr/>
          </p:nvSpPr>
          <p:spPr>
            <a:xfrm>
              <a:off x="3271680" y="2739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nves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4402"/>
            <p:cNvSpPr/>
            <p:nvPr/>
          </p:nvSpPr>
          <p:spPr>
            <a:xfrm flipH="1">
              <a:off x="4182840" y="4203720"/>
              <a:ext cx="42516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44401"/>
            <p:cNvSpPr/>
            <p:nvPr/>
          </p:nvSpPr>
          <p:spPr>
            <a:xfrm>
              <a:off x="3271680" y="4206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Univers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4400"/>
            <p:cNvSpPr/>
            <p:nvPr/>
          </p:nvSpPr>
          <p:spPr>
            <a:xfrm>
              <a:off x="5029200" y="4446720"/>
              <a:ext cx="144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44399"/>
            <p:cNvSpPr/>
            <p:nvPr/>
          </p:nvSpPr>
          <p:spPr>
            <a:xfrm>
              <a:off x="4541760" y="494028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ubl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genc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4398"/>
            <p:cNvSpPr/>
            <p:nvPr/>
          </p:nvSpPr>
          <p:spPr>
            <a:xfrm>
              <a:off x="5450040" y="4203720"/>
              <a:ext cx="42696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44397"/>
            <p:cNvSpPr/>
            <p:nvPr/>
          </p:nvSpPr>
          <p:spPr>
            <a:xfrm>
              <a:off x="5811840" y="4206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44396"/>
            <p:cNvSpPr/>
            <p:nvPr/>
          </p:nvSpPr>
          <p:spPr>
            <a:xfrm flipV="1">
              <a:off x="5450040" y="3471840"/>
              <a:ext cx="426960" cy="24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44395"/>
            <p:cNvSpPr/>
            <p:nvPr/>
          </p:nvSpPr>
          <p:spPr>
            <a:xfrm>
              <a:off x="5811840" y="27417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Entrepren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44394"/>
            <p:cNvSpPr/>
            <p:nvPr/>
          </p:nvSpPr>
          <p:spPr>
            <a:xfrm flipV="1">
              <a:off x="5029200" y="29826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44393"/>
            <p:cNvSpPr/>
            <p:nvPr/>
          </p:nvSpPr>
          <p:spPr>
            <a:xfrm>
              <a:off x="4541760" y="200808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cub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44392"/>
            <p:cNvSpPr/>
            <p:nvPr/>
          </p:nvSpPr>
          <p:spPr>
            <a:xfrm>
              <a:off x="4541760" y="3475080"/>
              <a:ext cx="976320" cy="9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AutoShape 19"/>
            <p:cNvCxnSpPr>
              <a:stCxn id="139" idx="7"/>
              <a:endCxn id="149" idx="2"/>
            </p:cNvCxnSpPr>
            <p:nvPr/>
          </p:nvCxnSpPr>
          <p:spPr>
            <a:xfrm flipV="1">
              <a:off x="4105440" y="2496600"/>
              <a:ext cx="437040" cy="3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AutoShape 21"/>
            <p:cNvCxnSpPr>
              <a:stCxn id="141" idx="4"/>
            </p:cNvCxnSpPr>
            <p:nvPr/>
          </p:nvCxnSpPr>
          <p:spPr>
            <a:xfrm>
              <a:off x="3760920" y="5183280"/>
              <a:ext cx="822960" cy="49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AutoShape 22"/>
            <p:cNvCxnSpPr>
              <a:stCxn id="143" idx="5"/>
              <a:endCxn id="145" idx="3"/>
            </p:cNvCxnSpPr>
            <p:nvPr/>
          </p:nvCxnSpPr>
          <p:spPr>
            <a:xfrm flipV="1">
              <a:off x="5375160" y="5039640"/>
              <a:ext cx="580320" cy="73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AutoShape 24"/>
            <p:cNvCxnSpPr>
              <a:stCxn id="145" idx="0"/>
              <a:endCxn id="147" idx="4"/>
            </p:cNvCxnSpPr>
            <p:nvPr/>
          </p:nvCxnSpPr>
          <p:spPr>
            <a:xfrm flipV="1">
              <a:off x="6300360" y="3717720"/>
              <a:ext cx="2520" cy="48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AutoShape 27"/>
            <p:cNvCxnSpPr>
              <a:stCxn id="149" idx="6"/>
              <a:endCxn id="147" idx="1"/>
            </p:cNvCxnSpPr>
            <p:nvPr/>
          </p:nvCxnSpPr>
          <p:spPr>
            <a:xfrm>
              <a:off x="5517720" y="2496960"/>
              <a:ext cx="437400" cy="38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AutoShape 38"/>
            <p:cNvCxnSpPr>
              <a:stCxn id="141" idx="0"/>
              <a:endCxn id="139" idx="4"/>
            </p:cNvCxnSpPr>
            <p:nvPr/>
          </p:nvCxnSpPr>
          <p:spPr>
            <a:xfrm flipV="1">
              <a:off x="3760920" y="3715560"/>
              <a:ext cx="2160" cy="49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7" name="Text Box 28"/>
          <p:cNvSpPr/>
          <p:nvPr/>
        </p:nvSpPr>
        <p:spPr>
          <a:xfrm>
            <a:off x="220680" y="1919160"/>
            <a:ext cx="325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&amp; Clean Energy Fund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focus of Obama Administration econom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 - $200M Innovation Seed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- $40M 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- $600M Innovation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 Federal Clean Tech Budget - $9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: $29B in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Hub Proje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M – 150M/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3D7-0EDF-42C2-AD10-07329E33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1:03:46Z</dcterms:created>
  <dc:creator>Carol Lauffer</dc:creator>
  <dc:description/>
  <dc:language>en-US</dc:language>
  <cp:lastModifiedBy>James Robbins</cp:lastModifiedBy>
  <dcterms:modified xsi:type="dcterms:W3CDTF">2011-11-01T01:10:44Z</dcterms:modified>
  <cp:revision>202</cp:revision>
  <dc:subject/>
  <dc:title>From Innovation to Incubation: Growing Emerging Sectors in Your Community</dc:title>
</cp:coreProperties>
</file>